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D70D5-4EAA-44C2-864F-5AC50AC81B1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64372-BD29-4DA3-81ED-A9A3065E61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remière partie des TP : Savoir appréhender et expliquer un système : ce sont les 10 premières minutes à l’o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2BF2E-460F-4857-80D7-EC4F049C16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Historiquement, l’homme a commencer par realiser des systèmes techniques non automatique : il commande un système à grande éner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nsuite il a cherché a deleguer aussi la commande à la machine : il ne donne plus que des consignes de fonctionnement.(-&gt;peurs de la machine qui commande et n’obeit pl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1D4D8-4A8C-4B93-8B7F-E28D37516C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xemp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hâteau d’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am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chine de pasteurisation du l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Générateur de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ignes hautes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adi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émo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éseau téléphon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cteur 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2966-289D-448F-9760-1BEB76DEE4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xemp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hâteau d’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am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chine de pasteurisation du l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Générateur de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ignes hautes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adi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émo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éseau téléphon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cteur 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FC1D-C5DB-493B-8F75-B411E60B57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D683D-FBB8-4048-8F77-F6C9C0BFC3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D38EB-DF25-4E64-B267-E3263CBFD0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1559F-FAED-4579-97DC-1448E41612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es objets nous déconcertent car il sont complexe : on ne comprend pas leur fonctionnements immédiatement à cause des nombreux elements interconnectes entre eux. Pourtant, chaque élément n’est pas difficile à analy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46B1C-199B-4727-8044-EE786CB44C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CFE14-35F4-49DC-BCDA-185A5D09B4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B6512-0077-457B-BC34-732D5D4DB8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2C84-EE40-46B1-BDF3-489E0B92C2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rois idées fortes : Composant, relation et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9960-32F3-4DAB-B660-FD5994DD0A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sister sur interdicip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oteur : mecanique, electronique, magnetique, electrique, meca flu (hydraulique), chimie, thermodynamiqu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FB73F-0302-4BBF-9B7A-6028FBAEAA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Un système est fait pour interagir avec l’exterieur. Vu de l’exterieur, il est entièrement défini par s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a fonction dépend aussi de l’exterieur : velo pour le sport, pour aller au lycee le matin, pour la promenade, pour la rando cycliste en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8783B-FBF1-4ECD-BE6C-33F3112709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Un système est fait pour interagir avec l’exterieur. Vu de l’exterieur, il est entièrement défini par s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a fonction dépend aussi de l’exterieur : velo pour le sport, pour aller au lycee le matin, pour la promenade, pour la rando cycliste en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72D89-5EE5-43DC-BFA5-9D79C93C3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Historiquement, l’homme a commencer par realiser des systèmes techniques non automatique : il commande un système à grande éner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nsuite il a cherché a deleguer aussi la commande à la machine : il ne donne plus que des consignes de fonctionnement.(-&gt;peurs de la machine qui commande et n’obeit pl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ABC3-E6AA-4909-8384-561D8F17A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F4CF8-E386-40DF-BE9C-967B2345E7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A2EB-6E66-4087-A611-F4BCFD76E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81C2-AF43-4890-A7A2-B0171E15F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E36B-4387-4519-8119-E2D6A018E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46F6-E00C-4646-B581-EF3041E5F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F402-38AB-406A-BBC2-5DBB4606C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AD15-6E6A-460C-9D63-82A0C890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A82E-26A3-472F-9232-7704BBE28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0AC3-20DB-411F-B8CC-F36E04BC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D947-8630-40BA-8EDA-F1FFBFF96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18A5-C675-4CFD-BDD2-CD51931DB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5687-F52F-4F34-B0D0-FE4274165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C56F-A46F-4133-86E6-F52A42B2B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9BF20-9642-47B2-8500-F7753D640A9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560" y="442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89000"/>
            <a:ext cx="439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2997360"/>
          <a:ext cx="7851960" cy="374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97360"/>
                    <a:ext cx="785196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413000"/>
            <a:ext cx="7533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Objectif général de formation en STI2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dentifier les éléments influents d’un système, décoder son organisation et utiliser un modèle de comportement pour prédire ou valider ses perform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étences attend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imitées au mode lecture et interprétation sur des systèmes ou sous-systèmes si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endant les activités, être capables de modifier ou créer les modèles de comportement pour valider les solutions envisagées ou prédire un compo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7640" y="18900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15920"/>
            <a:ext cx="482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4337280" cy="120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4797360"/>
            <a:ext cx="66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ystème est vu comme une boite noire. On ne s’intéresse pas aux détails internes d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’agit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xpliciter les critères de performance d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4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Application sur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er le contexte, la frontière et la fonction principale sous forme de diagramme du lanceur Ari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4968720" cy="174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907920"/>
            <a:ext cx="3405240" cy="511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19200" y="1052640"/>
            <a:ext cx="26319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7336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 Aria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on globale du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5567400" cy="153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346560" cy="30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47628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étences attend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devez être capable d’appréhender et présenter un système ré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cela, il fa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border/Présenter le système de manière glob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nalyser/Expliquer le fonctionnement int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order/Présenter de manière glob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l fa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e contex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a fronti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xprimer la fonction principa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a matière d’œuv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éciser la valeur ajouté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onner des critères de performance (si possible quantifi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7640" y="18900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115920"/>
            <a:ext cx="48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3429000"/>
            <a:ext cx="66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nalyse ou la présentation d’un système passe par une étude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inter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sieur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ints de v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euvent être adoptés : fonctionnel, structurel, comportemental ou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in d’échanger efficacement, certains outils de communication so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rmalis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Ce sont principalement des outils graphiques de type diagrammes Sys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416736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3640" y="333360"/>
            <a:ext cx="58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: Système de suivi de trajectoire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0200" y="1341360"/>
            <a:ext cx="243216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446200" cy="349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19280" y="1700280"/>
            <a:ext cx="1800360" cy="936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88760" y="4292640"/>
            <a:ext cx="173340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2637000"/>
            <a:ext cx="1152360" cy="165564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52400" y="3713040"/>
            <a:ext cx="509760" cy="1951200"/>
          </a:xfrm>
          <a:prstGeom prst="line">
            <a:avLst/>
          </a:prstGeom>
          <a:ln cap="sq"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1080" y="56815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ri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753320" y="477036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7650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3714840"/>
            <a:ext cx="885672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76500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 en boucle fer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856720" cy="302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3280" y="471816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 en boucle 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5232240"/>
            <a:ext cx="8856720" cy="12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1160" y="765000"/>
            <a:ext cx="3165480" cy="410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84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er une description structurelle du système de suivi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62643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1600" y="18900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ques exemp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36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hicule auto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0320" y="3141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00" y="638172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ine de fabrication de l’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9400" y="64911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ntrale nucl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572000" cy="305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548240" cy="2372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72000" cy="284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38988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2160" y="620640"/>
            <a:ext cx="3166920" cy="4103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2064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er une description structurelle du système de suivi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58000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920" y="3868560"/>
            <a:ext cx="65530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6320" y="11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Comportementa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3640" y="765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héma blocs fon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1719360"/>
            <a:ext cx="6553080" cy="178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42920" y="4076640"/>
            <a:ext cx="71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bloc représente le comportement d’un module transformant une grandeur physique d’entrée en une grandeur physique de sor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représentent des grandeurs phys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s schémas seront largement utilisés en « asservissements » (non au program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6320" y="11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Comportementa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5800" y="7650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553080" cy="29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7961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72360" y="379440"/>
            <a:ext cx="2771640" cy="1936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960" y="549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fini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907920"/>
            <a:ext cx="61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appelle système 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ssembl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une collection organisée (possédant une structure) d'objet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i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branchés (en interrelation) les uns aux autres, de façon à former un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it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un tout remplissant une ou plusieur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nc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un produit artificiel de l'esprit des ho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00" y="4006800"/>
            <a:ext cx="288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systè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ner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de ferme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linguis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capita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d’é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mon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32360" y="3408480"/>
            <a:ext cx="4103640" cy="334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9240" y="60213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ner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960" y="549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fini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Théorie des Syst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éorie générale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disciplinai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qui étudie les systèmes en tant qu'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sembles d'éléme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matériels ou non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rel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es uns avec les autres et formant un 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860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disciplinarit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ter les différentes disciplines intervenant dans l’étude des mo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676840" cy="3749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95960" y="32130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eur de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27640" y="123840"/>
            <a:ext cx="2772000" cy="1936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2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Un système n’est pas un ensemb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ne suffit pas de connaître tous les composants d’un système pour connaître le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51577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-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 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3600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5600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formances du système 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tech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norme NFE 90-001 définit un système technique comme "un ensemble d'éléments interconnectés de façon logique, qui se coordonnent pour réaliser une tâche précis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6237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leteuse Poc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6230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bot cueilleur de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384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auto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dit automatique s'il réalise la fonction seul, sans intervention hum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4284360" cy="284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3772080"/>
            <a:ext cx="42483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tech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norme NFE 90-001 définit un système technique comme "un ensemble d'éléments interconnectés de façon logique, qui se coordonnent pour réaliser une tâche précis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2384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auto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dit automatique s'il réalise la fonction seul, sans intervention hum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4608360" cy="304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3182760"/>
            <a:ext cx="4356360" cy="291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9600" y="61135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homme délègue la partie opé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6165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homme délègue la partie opérative et la partie com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40464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utomatisation au 20ième sièc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û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Qua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én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bots d’assemblage chez CITR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43280" y="1413000"/>
          <a:ext cx="59292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413000"/>
                    <a:ext cx="59292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27640" y="123840"/>
            <a:ext cx="2772000" cy="193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9079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lex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contient plusieurs éléments différents et combinés d'une manière qui n'est pas immédiatement claire pour l'esprit, qui est difficile à analy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5336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che dé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29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che in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894040"/>
            <a:ext cx="8424720" cy="96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5197680" cy="180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2880000" cy="20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7:48:33Z</dcterms:created>
  <dc:creator>DERU</dc:creator>
  <dc:description/>
  <dc:language>en-US</dc:language>
  <cp:lastModifiedBy>jose</cp:lastModifiedBy>
  <dcterms:modified xsi:type="dcterms:W3CDTF">2013-10-22T15:21:23Z</dcterms:modified>
  <cp:revision>30</cp:revision>
  <dc:subject/>
  <dc:title>Diapositive 1</dc:title>
</cp:coreProperties>
</file>