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44E9D-22A2-4594-9B88-EA1A9CCD54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126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226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482280"/>
            <a:ext cx="8226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9C6EB-2E30-4E9A-A658-A8260A4D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126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4014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333440"/>
            <a:ext cx="4014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482280"/>
            <a:ext cx="4014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482280"/>
            <a:ext cx="4014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1C09D-7EFB-4BCC-9CC2-EE3C4B74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126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26485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333440"/>
            <a:ext cx="26485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333440"/>
            <a:ext cx="26485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482280"/>
            <a:ext cx="26485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482280"/>
            <a:ext cx="26485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482280"/>
            <a:ext cx="26485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10523-B964-4330-A084-BCA801D71B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126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333440"/>
            <a:ext cx="82263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D8453-16D0-4B44-B6E7-F470AB4D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126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226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99E80-85FF-42B9-9EBA-5143CE85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126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4014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333440"/>
            <a:ext cx="4014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07AA9-D58F-4E73-8510-0807B75B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126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18352-D8CC-4C6F-AC92-385C04E3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1260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7C1F7-8CF1-4F0B-8296-978CBCA7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126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4014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333440"/>
            <a:ext cx="4014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482280"/>
            <a:ext cx="4014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7411D-62B1-4A07-8F3E-B43A05C8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126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4014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333440"/>
            <a:ext cx="4014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482280"/>
            <a:ext cx="4014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1E9C8-DA81-423D-8DFE-F4A23576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126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4014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333440"/>
            <a:ext cx="4014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482280"/>
            <a:ext cx="8226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82969-2579-4751-AB18-18A00268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126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33440"/>
            <a:ext cx="8226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26104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526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526104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DDB04-9A2F-4855-97EE-47DA72D15708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" Target="slide8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slide" Target="slide5.xml"/><Relationship Id="rId12" Type="http://schemas.openxmlformats.org/officeDocument/2006/relationships/image" Target="../media/image6.png"/><Relationship Id="rId13" Type="http://schemas.openxmlformats.org/officeDocument/2006/relationships/slide" Target="slide12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slide5.xml"/><Relationship Id="rId9" Type="http://schemas.openxmlformats.org/officeDocument/2006/relationships/slide" Target="slide12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" Target="slide7.xml"/><Relationship Id="rId13" Type="http://schemas.openxmlformats.org/officeDocument/2006/relationships/slide" Target="slide12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93680"/>
            <a:ext cx="842472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" name=""/>
          <p:cNvCxnSpPr/>
          <p:nvPr/>
        </p:nvCxnSpPr>
        <p:spPr>
          <a:xfrm>
            <a:off x="1025640" y="624960"/>
            <a:ext cx="21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" name=""/>
          <p:cNvCxnSpPr/>
          <p:nvPr/>
        </p:nvCxnSpPr>
        <p:spPr>
          <a:xfrm>
            <a:off x="2362320" y="632880"/>
            <a:ext cx="21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/>
          <p:nvPr/>
        </p:nvCxnSpPr>
        <p:spPr>
          <a:xfrm>
            <a:off x="379368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/>
          <p:nvPr/>
        </p:nvCxnSpPr>
        <p:spPr>
          <a:xfrm>
            <a:off x="518436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382680" y="912960"/>
            <a:ext cx="1287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éfini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1835280" y="912960"/>
            <a:ext cx="119700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Na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3203640" y="912960"/>
            <a:ext cx="1179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uppo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4572000" y="91296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Modul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"/>
          <p:cNvCxnSpPr/>
          <p:nvPr/>
        </p:nvCxnSpPr>
        <p:spPr>
          <a:xfrm>
            <a:off x="658764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5940360" y="9129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Et l'énergie dans tout çà …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"/>
          <p:cNvCxnSpPr/>
          <p:nvPr/>
        </p:nvCxnSpPr>
        <p:spPr>
          <a:xfrm>
            <a:off x="8098920" y="623880"/>
            <a:ext cx="396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>
            <a:hlinkClick r:id="rId6" action="ppaction://hlinksldjump"/>
          </p:cNvPr>
          <p:cNvSpPr/>
          <p:nvPr/>
        </p:nvSpPr>
        <p:spPr>
          <a:xfrm>
            <a:off x="7451640" y="9111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Convers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771640" y="193680"/>
            <a:ext cx="604836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108000" y="193680"/>
            <a:ext cx="122220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etou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/>
          <p:nvPr/>
        </p:nvSpPr>
        <p:spPr>
          <a:xfrm>
            <a:off x="142920" y="770040"/>
            <a:ext cx="8677080" cy="4751280"/>
          </a:xfrm>
          <a:prstGeom prst="roundRect">
            <a:avLst>
              <a:gd name="adj" fmla="val 4644"/>
            </a:avLst>
          </a:prstGeom>
          <a:noFill/>
          <a:ln w="381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/>
          <p:nvPr/>
        </p:nvSpPr>
        <p:spPr>
          <a:xfrm>
            <a:off x="1444680" y="193680"/>
            <a:ext cx="122220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uit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882720"/>
            <a:ext cx="8443800" cy="4567320"/>
          </a:xfrm>
          <a:prstGeom prst="roundRect">
            <a:avLst>
              <a:gd name="adj" fmla="val 3685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alibri"/>
              </a:rPr>
              <a:t>Le codage des valeurs numériques signées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Il existe de nombreux cas où la valeur numérique à coder pourra être négative (Exemple température comprise entre -20°C et + 45°C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a solution la plus simple qui vient à l'esprit est de rajouter un bit (à gauche) codant le signe. Les autres bits codant la valeur absolue de la valeur numérique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es langages de programmation usuels (C, Basic, …) utilisent à la place le codage en "complément à 2". Le principe est le suivant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n part de la valeur décimale à coder en binaire :   Exemple – 6   -&gt; 01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n complémente (inverse) la valeur de chaque bit : -------------------&gt;1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n ajoute 1 ------------------------------------------------------------------------&gt;1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4952880"/>
            <a:ext cx="5707080" cy="425520"/>
          </a:xfrm>
          <a:prstGeom prst="roundRect">
            <a:avLst>
              <a:gd name="adj" fmla="val 51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ATTENTION : Ce codage permet de coder uniquement des nombres entier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68360" y="2227320"/>
          <a:ext cx="2590920" cy="794880"/>
        </p:xfrm>
        <a:graphic>
          <a:graphicData uri="http://schemas.openxmlformats.org/drawingml/2006/table">
            <a:tbl>
              <a:tblPr/>
              <a:tblGrid>
                <a:gridCol w="353880"/>
                <a:gridCol w="319320"/>
                <a:gridCol w="320400"/>
                <a:gridCol w="319320"/>
                <a:gridCol w="701640"/>
                <a:gridCol w="576360"/>
              </a:tblGrid>
              <a:tr h="43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</a:t>
                      </a:r>
                      <a:r>
                        <a:rPr b="1" lang="fr-FR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</a:t>
                      </a:r>
                      <a:r>
                        <a:rPr b="1" lang="fr-FR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</a:t>
                      </a:r>
                      <a:r>
                        <a:rPr b="1" lang="fr-FR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</a:t>
                      </a:r>
                      <a:r>
                        <a:rPr b="1" lang="fr-FR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Sign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Valeur Numé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28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+ 1 1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+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28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- 1 1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3589200" y="2233440"/>
            <a:ext cx="5015160" cy="1235520"/>
          </a:xfrm>
          <a:prstGeom prst="rect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Cette méthode est simple MAIS présente un inconvénien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a valeur numérique "0" peut se coder de 2 façons différente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0000 ==&gt; + 0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1000 ==&gt; - 0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LLE N'EST DONC JAMAIS UTILISEE EN PRATIQUE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2" name=""/>
          <p:cNvCxnSpPr>
            <a:stCxn id="251" idx="1"/>
          </p:cNvCxnSpPr>
          <p:nvPr/>
        </p:nvCxnSpPr>
        <p:spPr>
          <a:xfrm flipH="1" flipV="1">
            <a:off x="3058920" y="2753640"/>
            <a:ext cx="530640" cy="97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6350040" y="3936960"/>
            <a:ext cx="2266920" cy="1006560"/>
          </a:xfrm>
          <a:prstGeom prst="rect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Cette méthode un peu particulière facilite le "travail" des calculateurs numériques car la valeur numérique 0 se code d'une seule faç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"/>
          <p:cNvCxnSpPr/>
          <p:nvPr/>
        </p:nvCxnSpPr>
        <p:spPr>
          <a:xfrm flipH="1">
            <a:off x="6011640" y="4389480"/>
            <a:ext cx="327600" cy="56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403280" y="193680"/>
            <a:ext cx="741672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108000" y="193680"/>
            <a:ext cx="122220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etou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/>
          <p:nvPr/>
        </p:nvSpPr>
        <p:spPr>
          <a:xfrm>
            <a:off x="142920" y="770040"/>
            <a:ext cx="8677080" cy="4751280"/>
          </a:xfrm>
          <a:prstGeom prst="roundRect">
            <a:avLst>
              <a:gd name="adj" fmla="val 4644"/>
            </a:avLst>
          </a:prstGeom>
          <a:noFill/>
          <a:ln w="381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882720"/>
            <a:ext cx="8443800" cy="4567320"/>
          </a:xfrm>
          <a:prstGeom prst="roundRect">
            <a:avLst>
              <a:gd name="adj" fmla="val 3685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alibri"/>
              </a:rPr>
              <a:t>Le codage des valeurs numériques décimales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es codages précédents permettent de coder uniquement des valeurs entièr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our coder en binaire des valeurs non entières (ex 21,65) on utilise le principe de la notation "ingénieur"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xemple en décimal : 21,65 peut aussi s'écrire sous la forme :  2165  x 10 </a:t>
            </a:r>
            <a:r>
              <a:rPr b="0" lang="fr-FR" sz="14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n voit que cela revient à coder 2 valeurs entières et cela on sait faire !!!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n va donc utiliser le même principe en binaire, MAIS comme chaque bit peut prendre 2 états (0/1) on utilisera la relation suivante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400" spc="-1" strike="noStrike">
                <a:solidFill>
                  <a:srgbClr val="ff0000"/>
                </a:solidFill>
                <a:latin typeface="Calibri"/>
              </a:rPr>
              <a:t>Valeur = MANTISSE x 2 </a:t>
            </a:r>
            <a:r>
              <a:rPr b="1" lang="fr-FR" sz="1400" spc="-1" strike="noStrike" baseline="30000">
                <a:solidFill>
                  <a:srgbClr val="ff0000"/>
                </a:solidFill>
                <a:latin typeface="Calibri"/>
              </a:rPr>
              <a:t>EXPOSANT </a:t>
            </a:r>
            <a:r>
              <a:rPr b="1" lang="fr-FR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t on codera en "complément à 2" la mantisse et l'exposa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n obtiendra un mot binaire de la forme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e nombre de bits sur lequel est codé chacune des 2 parties dépend du langage de programmation employé. La variante la plus fréquente sur les "petits" systèmes utilise 8 bits pour coder l'exposant et 24 bits pour coder la mantisse soit 32 bits au tot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/>
          <p:nvPr/>
        </p:nvSpPr>
        <p:spPr>
          <a:xfrm>
            <a:off x="5219640" y="1849320"/>
            <a:ext cx="432000" cy="216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/>
          <p:nvPr/>
        </p:nvSpPr>
        <p:spPr>
          <a:xfrm>
            <a:off x="6012000" y="1849320"/>
            <a:ext cx="144360" cy="157320"/>
          </a:xfrm>
          <a:custGeom>
            <a:avLst/>
            <a:gdLst>
              <a:gd name="textAreaLeft" fmla="*/ 6840 w 144360"/>
              <a:gd name="textAreaRight" fmla="*/ 137520 w 144360"/>
              <a:gd name="textAreaTop" fmla="*/ 6840 h 157320"/>
              <a:gd name="textAreaBottom" fmla="*/ 150480 h 157320"/>
            </a:gdLst>
            <a:ahLst/>
            <a:rect l="textAreaLeft" t="textAreaTop" r="textAreaRight" b="textAreaBottom"/>
            <a:pathLst>
              <a:path w="21600" h="23534">
                <a:moveTo>
                  <a:pt x="3600" y="0"/>
                </a:moveTo>
                <a:arcTo wR="3600" hR="3600" stAng="16200000" swAng="-5400000"/>
                <a:lnTo>
                  <a:pt x="0" y="19934"/>
                </a:lnTo>
                <a:arcTo wR="3600" hR="3600" stAng="10800000" swAng="-5400000"/>
                <a:lnTo>
                  <a:pt x="18000" y="235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/>
          <p:nvPr/>
        </p:nvSpPr>
        <p:spPr>
          <a:xfrm>
            <a:off x="6443640" y="2136600"/>
            <a:ext cx="814320" cy="276480"/>
          </a:xfrm>
          <a:prstGeom prst="rect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antisse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/>
          <p:nvPr/>
        </p:nvSpPr>
        <p:spPr>
          <a:xfrm>
            <a:off x="6443640" y="1778040"/>
            <a:ext cx="814320" cy="276480"/>
          </a:xfrm>
          <a:prstGeom prst="rect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posant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3" name=""/>
          <p:cNvCxnSpPr/>
          <p:nvPr/>
        </p:nvCxnSpPr>
        <p:spPr>
          <a:xfrm flipH="1" flipV="1">
            <a:off x="5651280" y="2064960"/>
            <a:ext cx="792720" cy="210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"/>
          <p:cNvCxnSpPr/>
          <p:nvPr/>
        </p:nvCxnSpPr>
        <p:spPr>
          <a:xfrm flipH="1" flipV="1">
            <a:off x="6156000" y="1906200"/>
            <a:ext cx="2880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265" name=""/>
          <p:cNvGraphicFramePr/>
          <p:nvPr/>
        </p:nvGraphicFramePr>
        <p:xfrm>
          <a:off x="3564000" y="3433680"/>
          <a:ext cx="2087640" cy="287280"/>
        </p:xfrm>
        <a:graphic>
          <a:graphicData uri="http://schemas.openxmlformats.org/drawingml/2006/table">
            <a:tbl>
              <a:tblPr/>
              <a:tblGrid>
                <a:gridCol w="934920"/>
                <a:gridCol w="115272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TIS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POS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376200" y="4297320"/>
            <a:ext cx="8228160" cy="936720"/>
          </a:xfrm>
          <a:prstGeom prst="roundRect">
            <a:avLst>
              <a:gd name="adj" fmla="val 51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Qui peut le plus peut le moins ….. Alors pourquoi ne pas employer systématiquement ce type de codage 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Tout simplement car il utilise un nombre ELEVE de bits qu'il faudra stocker et/ou transmettr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Il est donc souvent préférable d'utiliser un des codages de type "Entier"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403280" y="193680"/>
            <a:ext cx="741672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108000" y="193680"/>
            <a:ext cx="122220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etou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/>
          <p:nvPr/>
        </p:nvSpPr>
        <p:spPr>
          <a:xfrm>
            <a:off x="142920" y="770040"/>
            <a:ext cx="8893080" cy="4751280"/>
          </a:xfrm>
          <a:prstGeom prst="roundRect">
            <a:avLst>
              <a:gd name="adj" fmla="val 4644"/>
            </a:avLst>
          </a:prstGeom>
          <a:noFill/>
          <a:ln w="381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l existe globalement 3 types de conversion (Changement de nature) de l'information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1128600"/>
            <a:ext cx="2617560" cy="4249800"/>
          </a:xfrm>
          <a:custGeom>
            <a:avLst/>
            <a:gdLst>
              <a:gd name="textAreaLeft" fmla="*/ 28080 w 2617560"/>
              <a:gd name="textAreaRight" fmla="*/ 2589480 w 2617560"/>
              <a:gd name="textAreaTop" fmla="*/ 28080 h 4249800"/>
              <a:gd name="textAreaBottom" fmla="*/ 4221720 h 4249800"/>
            </a:gdLst>
            <a:ahLst/>
            <a:rect l="textAreaLeft" t="textAreaTop" r="textAreaRight" b="textAreaBottom"/>
            <a:pathLst>
              <a:path w="21600" h="35067">
                <a:moveTo>
                  <a:pt x="796" y="0"/>
                </a:moveTo>
                <a:arcTo wR="796" hR="796" stAng="16200000" swAng="-5400000"/>
                <a:lnTo>
                  <a:pt x="0" y="34271"/>
                </a:lnTo>
                <a:arcTo wR="796" hR="796" stAng="10800000" swAng="-5400000"/>
                <a:lnTo>
                  <a:pt x="20804" y="35067"/>
                </a:lnTo>
                <a:arcTo wR="796" hR="796" stAng="5400000" swAng="-5400000"/>
                <a:lnTo>
                  <a:pt x="21600" y="796"/>
                </a:lnTo>
                <a:arcTo wR="796" hR="796" stAng="0" swAng="-5400000"/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nalogique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Logiq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Elle est effectuée par comparaison entre la valeur analogique d'entrée avec une valeur analogique fixe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On utilise pour cela un COMPARATEUR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1" name=""/>
          <p:cNvCxnSpPr/>
          <p:nvPr/>
        </p:nvCxnSpPr>
        <p:spPr>
          <a:xfrm>
            <a:off x="547200" y="4463640"/>
            <a:ext cx="1081800" cy="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2" name=""/>
          <p:cNvCxnSpPr/>
          <p:nvPr/>
        </p:nvCxnSpPr>
        <p:spPr>
          <a:xfrm flipV="1">
            <a:off x="547200" y="3849480"/>
            <a:ext cx="3960" cy="614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1630440" y="4356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3706920"/>
            <a:ext cx="3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Ve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/>
          <p:nvPr/>
        </p:nvSpPr>
        <p:spPr>
          <a:xfrm>
            <a:off x="266760" y="4098960"/>
            <a:ext cx="3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Ve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/>
          <p:nvPr/>
        </p:nvSpPr>
        <p:spPr>
          <a:xfrm>
            <a:off x="547560" y="4170240"/>
            <a:ext cx="1079640" cy="18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7" name=""/>
          <p:cNvCxnSpPr/>
          <p:nvPr/>
        </p:nvCxnSpPr>
        <p:spPr>
          <a:xfrm>
            <a:off x="534600" y="5272200"/>
            <a:ext cx="10818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8" name=""/>
          <p:cNvCxnSpPr/>
          <p:nvPr/>
        </p:nvCxnSpPr>
        <p:spPr>
          <a:xfrm flipV="1">
            <a:off x="534960" y="4659120"/>
            <a:ext cx="2160" cy="61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1616040" y="516564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/>
          <p:nvPr/>
        </p:nvSpPr>
        <p:spPr>
          <a:xfrm>
            <a:off x="463680" y="4530600"/>
            <a:ext cx="28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U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/>
          <p:nvPr/>
        </p:nvSpPr>
        <p:spPr>
          <a:xfrm>
            <a:off x="534960" y="4803840"/>
            <a:ext cx="1079640" cy="144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81120" y="3917520"/>
            <a:ext cx="1440" cy="13683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/>
          <p:nvPr/>
        </p:nvSpPr>
        <p:spPr>
          <a:xfrm>
            <a:off x="542880" y="3963960"/>
            <a:ext cx="1096920" cy="490680"/>
          </a:xfrm>
          <a:custGeom>
            <a:avLst/>
            <a:gdLst/>
            <a:ahLst/>
            <a:rect l="l" t="t" r="r" b="b"/>
            <a:pathLst>
              <a:path w="1097280" h="491055">
                <a:moveTo>
                  <a:pt x="0" y="491055"/>
                </a:moveTo>
                <a:lnTo>
                  <a:pt x="0" y="491055"/>
                </a:lnTo>
                <a:cubicBezTo>
                  <a:pt x="17069" y="476425"/>
                  <a:pt x="34404" y="462100"/>
                  <a:pt x="51207" y="447164"/>
                </a:cubicBezTo>
                <a:cubicBezTo>
                  <a:pt x="56362" y="442582"/>
                  <a:pt x="62011" y="438272"/>
                  <a:pt x="65837" y="432533"/>
                </a:cubicBezTo>
                <a:cubicBezTo>
                  <a:pt x="71886" y="423459"/>
                  <a:pt x="75058" y="412740"/>
                  <a:pt x="80468" y="403272"/>
                </a:cubicBezTo>
                <a:cubicBezTo>
                  <a:pt x="92772" y="381741"/>
                  <a:pt x="93708" y="382717"/>
                  <a:pt x="109728" y="366696"/>
                </a:cubicBezTo>
                <a:cubicBezTo>
                  <a:pt x="126890" y="315218"/>
                  <a:pt x="104549" y="378784"/>
                  <a:pt x="131674" y="315490"/>
                </a:cubicBezTo>
                <a:cubicBezTo>
                  <a:pt x="134711" y="308402"/>
                  <a:pt x="136551" y="300859"/>
                  <a:pt x="138989" y="293544"/>
                </a:cubicBezTo>
                <a:cubicBezTo>
                  <a:pt x="139484" y="287109"/>
                  <a:pt x="149846" y="142908"/>
                  <a:pt x="153620" y="125295"/>
                </a:cubicBezTo>
                <a:cubicBezTo>
                  <a:pt x="161242" y="89726"/>
                  <a:pt x="167996" y="100828"/>
                  <a:pt x="190196" y="81404"/>
                </a:cubicBezTo>
                <a:cubicBezTo>
                  <a:pt x="203172" y="70050"/>
                  <a:pt x="214580" y="57020"/>
                  <a:pt x="226772" y="44828"/>
                </a:cubicBezTo>
                <a:cubicBezTo>
                  <a:pt x="231649" y="39951"/>
                  <a:pt x="234711" y="31870"/>
                  <a:pt x="241402" y="30197"/>
                </a:cubicBezTo>
                <a:lnTo>
                  <a:pt x="270663" y="22882"/>
                </a:lnTo>
                <a:cubicBezTo>
                  <a:pt x="277978" y="18005"/>
                  <a:pt x="284745" y="12184"/>
                  <a:pt x="292608" y="8252"/>
                </a:cubicBezTo>
                <a:cubicBezTo>
                  <a:pt x="325250" y="-8069"/>
                  <a:pt x="346771" y="4158"/>
                  <a:pt x="387706" y="8252"/>
                </a:cubicBezTo>
                <a:cubicBezTo>
                  <a:pt x="437336" y="41338"/>
                  <a:pt x="419164" y="25079"/>
                  <a:pt x="446228" y="52143"/>
                </a:cubicBezTo>
                <a:cubicBezTo>
                  <a:pt x="463384" y="103612"/>
                  <a:pt x="441054" y="40068"/>
                  <a:pt x="468173" y="103349"/>
                </a:cubicBezTo>
                <a:cubicBezTo>
                  <a:pt x="482417" y="136585"/>
                  <a:pt x="465789" y="115597"/>
                  <a:pt x="490119" y="139925"/>
                </a:cubicBezTo>
                <a:cubicBezTo>
                  <a:pt x="492557" y="147240"/>
                  <a:pt x="492807" y="155702"/>
                  <a:pt x="497434" y="161871"/>
                </a:cubicBezTo>
                <a:cubicBezTo>
                  <a:pt x="525453" y="199230"/>
                  <a:pt x="523918" y="195083"/>
                  <a:pt x="555956" y="205762"/>
                </a:cubicBezTo>
                <a:cubicBezTo>
                  <a:pt x="646202" y="296008"/>
                  <a:pt x="553990" y="208578"/>
                  <a:pt x="614477" y="256968"/>
                </a:cubicBezTo>
                <a:cubicBezTo>
                  <a:pt x="619863" y="261277"/>
                  <a:pt x="623590" y="267461"/>
                  <a:pt x="629108" y="271599"/>
                </a:cubicBezTo>
                <a:cubicBezTo>
                  <a:pt x="643175" y="282149"/>
                  <a:pt x="655940" y="296595"/>
                  <a:pt x="672999" y="300860"/>
                </a:cubicBezTo>
                <a:cubicBezTo>
                  <a:pt x="739001" y="317360"/>
                  <a:pt x="712444" y="309132"/>
                  <a:pt x="753466" y="322805"/>
                </a:cubicBezTo>
                <a:cubicBezTo>
                  <a:pt x="772221" y="335309"/>
                  <a:pt x="785933" y="348474"/>
                  <a:pt x="811988" y="344751"/>
                </a:cubicBezTo>
                <a:cubicBezTo>
                  <a:pt x="818816" y="343776"/>
                  <a:pt x="821741" y="334997"/>
                  <a:pt x="826618" y="330120"/>
                </a:cubicBezTo>
                <a:cubicBezTo>
                  <a:pt x="829056" y="322805"/>
                  <a:pt x="829307" y="314344"/>
                  <a:pt x="833933" y="308175"/>
                </a:cubicBezTo>
                <a:cubicBezTo>
                  <a:pt x="844278" y="294381"/>
                  <a:pt x="870509" y="271599"/>
                  <a:pt x="870509" y="271599"/>
                </a:cubicBezTo>
                <a:cubicBezTo>
                  <a:pt x="872947" y="264284"/>
                  <a:pt x="874079" y="256394"/>
                  <a:pt x="877824" y="249653"/>
                </a:cubicBezTo>
                <a:cubicBezTo>
                  <a:pt x="889332" y="228939"/>
                  <a:pt x="914581" y="191011"/>
                  <a:pt x="936346" y="176501"/>
                </a:cubicBezTo>
                <a:cubicBezTo>
                  <a:pt x="943661" y="171624"/>
                  <a:pt x="950258" y="165442"/>
                  <a:pt x="958292" y="161871"/>
                </a:cubicBezTo>
                <a:cubicBezTo>
                  <a:pt x="972385" y="155608"/>
                  <a:pt x="987553" y="152117"/>
                  <a:pt x="1002183" y="147240"/>
                </a:cubicBezTo>
                <a:cubicBezTo>
                  <a:pt x="1009498" y="144802"/>
                  <a:pt x="1017231" y="143373"/>
                  <a:pt x="1024128" y="139925"/>
                </a:cubicBezTo>
                <a:cubicBezTo>
                  <a:pt x="1033882" y="135048"/>
                  <a:pt x="1043178" y="129124"/>
                  <a:pt x="1053389" y="125295"/>
                </a:cubicBezTo>
                <a:cubicBezTo>
                  <a:pt x="1122467" y="99392"/>
                  <a:pt x="1054933" y="131840"/>
                  <a:pt x="1097280" y="110664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069920" y="3908160"/>
            <a:ext cx="1800" cy="13669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1473120" y="3917520"/>
            <a:ext cx="1800" cy="13683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/>
          <p:nvPr/>
        </p:nvSpPr>
        <p:spPr>
          <a:xfrm>
            <a:off x="527040" y="4799160"/>
            <a:ext cx="1112760" cy="482400"/>
          </a:xfrm>
          <a:custGeom>
            <a:avLst/>
            <a:gdLst/>
            <a:ahLst/>
            <a:rect l="l" t="t" r="r" b="b"/>
            <a:pathLst>
              <a:path w="1111910" h="482803">
                <a:moveTo>
                  <a:pt x="0" y="475488"/>
                </a:moveTo>
                <a:lnTo>
                  <a:pt x="153619" y="475488"/>
                </a:lnTo>
                <a:lnTo>
                  <a:pt x="153619" y="7315"/>
                </a:lnTo>
                <a:lnTo>
                  <a:pt x="541325" y="7315"/>
                </a:lnTo>
                <a:lnTo>
                  <a:pt x="541325" y="482803"/>
                </a:lnTo>
                <a:lnTo>
                  <a:pt x="950976" y="475488"/>
                </a:lnTo>
                <a:lnTo>
                  <a:pt x="943661" y="0"/>
                </a:lnTo>
                <a:lnTo>
                  <a:pt x="1111910" y="0"/>
                </a:lnTo>
              </a:path>
            </a:pathLst>
          </a:custGeom>
          <a:noFill/>
          <a:ln w="2844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14280" y="2496960"/>
            <a:ext cx="2552040" cy="1087200"/>
            <a:chOff x="314280" y="2496960"/>
            <a:chExt cx="2552040" cy="1087200"/>
          </a:xfrm>
        </p:grpSpPr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314280" y="2568600"/>
              <a:ext cx="1301760" cy="9666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89" name=""/>
            <p:cNvCxnSpPr/>
            <p:nvPr/>
          </p:nvCxnSpPr>
          <p:spPr>
            <a:xfrm flipV="1">
              <a:off x="1782720" y="3401640"/>
              <a:ext cx="81360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290" name=""/>
            <p:cNvCxnSpPr/>
            <p:nvPr/>
          </p:nvCxnSpPr>
          <p:spPr>
            <a:xfrm flipV="1">
              <a:off x="1782360" y="2790360"/>
              <a:ext cx="1080" cy="612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291" name=""/>
            <p:cNvSpPr/>
            <p:nvPr/>
          </p:nvSpPr>
          <p:spPr>
            <a:xfrm>
              <a:off x="2525400" y="329868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Ve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93080" y="2649600"/>
              <a:ext cx="285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U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20320" y="336852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Ve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1782720" y="2930400"/>
              <a:ext cx="809640" cy="648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192400" y="2862000"/>
              <a:ext cx="0" cy="55548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84520" y="2925720"/>
              <a:ext cx="807840" cy="473040"/>
            </a:xfrm>
            <a:custGeom>
              <a:avLst/>
              <a:gdLst/>
              <a:ahLst/>
              <a:rect l="l" t="t" r="r" b="b"/>
              <a:pathLst>
                <a:path w="1089965" h="475488">
                  <a:moveTo>
                    <a:pt x="0" y="475488"/>
                  </a:moveTo>
                  <a:lnTo>
                    <a:pt x="548640" y="475488"/>
                  </a:lnTo>
                  <a:lnTo>
                    <a:pt x="548640" y="0"/>
                  </a:lnTo>
                  <a:lnTo>
                    <a:pt x="1089965" y="7315"/>
                  </a:lnTo>
                </a:path>
              </a:pathLst>
            </a:custGeom>
            <a:noFill/>
            <a:ln w="2844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85240" y="2496960"/>
              <a:ext cx="1049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Fonction de transfert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763640" y="4010040"/>
            <a:ext cx="998640" cy="295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nalog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/>
          <p:nvPr/>
        </p:nvSpPr>
        <p:spPr>
          <a:xfrm>
            <a:off x="1763640" y="4865760"/>
            <a:ext cx="998640" cy="295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og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0" name=""/>
          <p:cNvCxnSpPr>
            <a:stCxn id="298" idx="2"/>
            <a:endCxn id="299" idx="0"/>
          </p:cNvCxnSpPr>
          <p:nvPr/>
        </p:nvCxnSpPr>
        <p:spPr>
          <a:xfrm>
            <a:off x="2262240" y="4304880"/>
            <a:ext cx="2160" cy="5612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2924280" y="1128600"/>
            <a:ext cx="2800080" cy="4249800"/>
          </a:xfrm>
          <a:custGeom>
            <a:avLst/>
            <a:gdLst>
              <a:gd name="textAreaLeft" fmla="*/ 29880 w 2800080"/>
              <a:gd name="textAreaRight" fmla="*/ 2770200 w 2800080"/>
              <a:gd name="textAreaTop" fmla="*/ 29880 h 4249800"/>
              <a:gd name="textAreaBottom" fmla="*/ 4219920 h 4249800"/>
            </a:gdLst>
            <a:ahLst/>
            <a:rect l="textAreaLeft" t="textAreaTop" r="textAreaRight" b="textAreaBottom"/>
            <a:pathLst>
              <a:path w="21600" h="32782">
                <a:moveTo>
                  <a:pt x="796" y="0"/>
                </a:moveTo>
                <a:arcTo wR="796" hR="796" stAng="16200000" swAng="-5400000"/>
                <a:lnTo>
                  <a:pt x="0" y="31986"/>
                </a:lnTo>
                <a:arcTo wR="796" hR="796" stAng="10800000" swAng="-5400000"/>
                <a:lnTo>
                  <a:pt x="20804" y="32782"/>
                </a:lnTo>
                <a:arcTo wR="796" hR="796" stAng="5400000" swAng="-5400000"/>
                <a:lnTo>
                  <a:pt x="21600" y="796"/>
                </a:lnTo>
                <a:arcTo wR="796" hR="796" stAng="0" swAng="-5400000"/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nalogique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Numériq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On fixe une plage de variation maximale de la grandeur analogique d'entrée (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alibri"/>
              </a:rPr>
              <a:t>Pleine échelle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fr-FR" sz="1000" spc="-1" strike="noStrike">
                <a:solidFill>
                  <a:srgbClr val="ff0000"/>
                </a:solidFill>
                <a:latin typeface="Calibri"/>
              </a:rPr>
              <a:t>variation de la grandeur analogique à l'intérieur de la pleine échelle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 provoque </a:t>
            </a:r>
            <a:r>
              <a:rPr b="1" lang="fr-FR" sz="1000" spc="-1" strike="noStrike">
                <a:solidFill>
                  <a:srgbClr val="ff0000"/>
                </a:solidFill>
                <a:latin typeface="Calibri"/>
              </a:rPr>
              <a:t>la variation du mot binaire délivré 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en sorti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On utilise pour cela un CAN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(Convertisseur Analogique / Numérique)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859120" y="2786040"/>
            <a:ext cx="2893320" cy="1240200"/>
            <a:chOff x="2859120" y="2786040"/>
            <a:chExt cx="2893320" cy="1240200"/>
          </a:xfrm>
        </p:grpSpPr>
        <p:pic>
          <p:nvPicPr>
            <p:cNvPr id="304" name="" descr=""/>
            <p:cNvPicPr/>
            <p:nvPr/>
          </p:nvPicPr>
          <p:blipFill>
            <a:blip r:embed="rId2"/>
            <a:srcRect l="0" t="0" r="-8217" b="-4155"/>
            <a:stretch/>
          </p:blipFill>
          <p:spPr>
            <a:xfrm>
              <a:off x="2859120" y="2786040"/>
              <a:ext cx="1782720" cy="1235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4211640" y="3479760"/>
                  <a:ext cx="139716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=ValeurEntière</m:t>
                      </m:r>
                      <m:r>
                        <m:t xml:space="preserve">(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Ve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MIT</m:t>
                              </m:r>
                            </m:sub>
                          </m:sSub>
                        </m:den>
                      </m:f>
                      <m:r>
                        <m:t xml:space="preserve">×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6" name=""/>
            <p:cNvSpPr/>
            <p:nvPr/>
          </p:nvSpPr>
          <p:spPr>
            <a:xfrm>
              <a:off x="4436280" y="2852640"/>
              <a:ext cx="1316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n = Nombre de bits</a:t>
              </a:r>
              <a:br>
                <a:rPr sz="800"/>
              </a:b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      sur lequel est codée</a:t>
              </a:r>
              <a:br>
                <a:rPr sz="800"/>
              </a:b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      la valeur numérique "N"</a:t>
              </a:r>
              <a:br>
                <a:rPr sz="800"/>
              </a:b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      de sortie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63720" y="3794040"/>
              <a:ext cx="103752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lang="fr-FR" sz="800" spc="-1" strike="noStrike" baseline="-25000">
                  <a:solidFill>
                    <a:srgbClr val="000000"/>
                  </a:solidFill>
                  <a:latin typeface="Calibri"/>
                </a:rPr>
                <a:t>LIMIT</a:t>
              </a: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 = Pleine échell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928240" y="4010040"/>
            <a:ext cx="1640880" cy="1063440"/>
            <a:chOff x="2928240" y="4010040"/>
            <a:chExt cx="1640880" cy="1063440"/>
          </a:xfrm>
        </p:grpSpPr>
        <p:cxnSp>
          <p:nvCxnSpPr>
            <p:cNvPr id="309" name=""/>
            <p:cNvCxnSpPr/>
            <p:nvPr/>
          </p:nvCxnSpPr>
          <p:spPr>
            <a:xfrm>
              <a:off x="3311640" y="4766760"/>
              <a:ext cx="10792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/>
            <p:nvPr/>
          </p:nvCxnSpPr>
          <p:spPr>
            <a:xfrm flipV="1">
              <a:off x="3311280" y="4152600"/>
              <a:ext cx="1080" cy="612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11" name=""/>
            <p:cNvSpPr/>
            <p:nvPr/>
          </p:nvSpPr>
          <p:spPr>
            <a:xfrm>
              <a:off x="4354920" y="4659480"/>
              <a:ext cx="21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22000" y="4010040"/>
              <a:ext cx="289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V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76720" y="4257720"/>
              <a:ext cx="10767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14000" y="4781520"/>
              <a:ext cx="246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28240" y="4113360"/>
              <a:ext cx="3729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lang="fr-FR" sz="800" spc="-1" strike="noStrike" baseline="-25000">
                  <a:solidFill>
                    <a:srgbClr val="000000"/>
                  </a:solidFill>
                  <a:latin typeface="Calibri"/>
                </a:rPr>
                <a:t>LIMIT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689360"/>
              <a:ext cx="10767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76720" y="4616280"/>
              <a:ext cx="10767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76720" y="4545000"/>
              <a:ext cx="10767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76720" y="4473720"/>
              <a:ext cx="10767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76720" y="4400640"/>
              <a:ext cx="10767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76720" y="4329000"/>
              <a:ext cx="10767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30920" y="4637160"/>
              <a:ext cx="23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368880" y="4208040"/>
              <a:ext cx="768960" cy="5367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41080" y="4211640"/>
              <a:ext cx="141120" cy="1317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11640" y="4735440"/>
              <a:ext cx="0" cy="338040"/>
            </a:xfrm>
            <a:prstGeom prst="line">
              <a:avLst/>
            </a:prstGeom>
            <a:ln w="9360">
              <a:solidFill>
                <a:srgbClr val="4a7eb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20000" y="4708440"/>
              <a:ext cx="0" cy="338400"/>
            </a:xfrm>
            <a:prstGeom prst="line">
              <a:avLst/>
            </a:prstGeom>
            <a:ln w="9360">
              <a:solidFill>
                <a:srgbClr val="4a7eb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15040" y="4616280"/>
              <a:ext cx="0" cy="425520"/>
            </a:xfrm>
            <a:prstGeom prst="line">
              <a:avLst/>
            </a:prstGeom>
            <a:ln w="9360">
              <a:solidFill>
                <a:srgbClr val="4a7eb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35640" y="4545000"/>
              <a:ext cx="0" cy="477720"/>
            </a:xfrm>
            <a:prstGeom prst="line">
              <a:avLst/>
            </a:prstGeom>
            <a:ln w="9360">
              <a:solidFill>
                <a:srgbClr val="4a7eb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46880" y="4473720"/>
              <a:ext cx="0" cy="568080"/>
            </a:xfrm>
            <a:prstGeom prst="line">
              <a:avLst/>
            </a:prstGeom>
            <a:ln w="9360">
              <a:solidFill>
                <a:srgbClr val="4a7eb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53440" y="4400640"/>
              <a:ext cx="0" cy="641160"/>
            </a:xfrm>
            <a:prstGeom prst="line">
              <a:avLst/>
            </a:prstGeom>
            <a:ln w="9360">
              <a:solidFill>
                <a:srgbClr val="4f81b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69440" y="4267080"/>
              <a:ext cx="0" cy="779760"/>
            </a:xfrm>
            <a:prstGeom prst="line">
              <a:avLst/>
            </a:prstGeom>
            <a:ln w="9360">
              <a:solidFill>
                <a:srgbClr val="4a7eb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08040" y="4265640"/>
              <a:ext cx="0" cy="779400"/>
            </a:xfrm>
            <a:prstGeom prst="line">
              <a:avLst/>
            </a:prstGeom>
            <a:ln w="9360">
              <a:solidFill>
                <a:srgbClr val="4a7eb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85800" y="4327560"/>
              <a:ext cx="0" cy="719280"/>
            </a:xfrm>
            <a:prstGeom prst="line">
              <a:avLst/>
            </a:prstGeom>
            <a:ln w="9360">
              <a:solidFill>
                <a:srgbClr val="4a7eb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60000" y="4329000"/>
              <a:ext cx="360" cy="720720"/>
            </a:xfrm>
            <a:custGeom>
              <a:avLst/>
              <a:gdLst/>
              <a:ahLst/>
              <a:rect l="l" t="t" r="r" b="b"/>
              <a:pathLst>
                <a:path w="0" h="723900">
                  <a:moveTo>
                    <a:pt x="0" y="0"/>
                  </a:moveTo>
                  <a:lnTo>
                    <a:pt x="0" y="723900"/>
                  </a:lnTo>
                </a:path>
              </a:pathLst>
            </a:custGeom>
            <a:noFill/>
            <a:ln w="9360">
              <a:solidFill>
                <a:srgbClr val="4f81bd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14880" y="4832280"/>
              <a:ext cx="10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20000" y="4832280"/>
              <a:ext cx="10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30880" y="4832280"/>
              <a:ext cx="103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35640" y="4832280"/>
              <a:ext cx="103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46880" y="4832280"/>
              <a:ext cx="103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52000" y="4832280"/>
              <a:ext cx="103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963240" y="4832280"/>
              <a:ext cx="10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69440" y="4832280"/>
              <a:ext cx="103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12720" y="4827600"/>
              <a:ext cx="103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545000" y="4226040"/>
            <a:ext cx="998640" cy="295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nalog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/>
          <p:nvPr/>
        </p:nvSpPr>
        <p:spPr>
          <a:xfrm>
            <a:off x="4545000" y="4802040"/>
            <a:ext cx="998640" cy="29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umér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6" name=""/>
          <p:cNvCxnSpPr>
            <a:stCxn id="344" idx="2"/>
            <a:endCxn id="345" idx="0"/>
          </p:cNvCxnSpPr>
          <p:nvPr/>
        </p:nvCxnSpPr>
        <p:spPr>
          <a:xfrm>
            <a:off x="5044680" y="4521240"/>
            <a:ext cx="2520" cy="281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>
            <a:off x="5808600" y="1131840"/>
            <a:ext cx="3156120" cy="4248360"/>
          </a:xfrm>
          <a:custGeom>
            <a:avLst/>
            <a:gdLst>
              <a:gd name="textAreaLeft" fmla="*/ 33840 w 3156120"/>
              <a:gd name="textAreaRight" fmla="*/ 3122280 w 3156120"/>
              <a:gd name="textAreaTop" fmla="*/ 33840 h 4248360"/>
              <a:gd name="textAreaBottom" fmla="*/ 4214520 h 4248360"/>
            </a:gdLst>
            <a:ahLst/>
            <a:rect l="textAreaLeft" t="textAreaTop" r="textAreaRight" b="textAreaBottom"/>
            <a:pathLst>
              <a:path w="21600" h="29074">
                <a:moveTo>
                  <a:pt x="796" y="0"/>
                </a:moveTo>
                <a:arcTo wR="796" hR="796" stAng="16200000" swAng="-5400000"/>
                <a:lnTo>
                  <a:pt x="0" y="28278"/>
                </a:lnTo>
                <a:arcTo wR="796" hR="796" stAng="10800000" swAng="-5400000"/>
                <a:lnTo>
                  <a:pt x="20804" y="29074"/>
                </a:lnTo>
                <a:arcTo wR="796" hR="796" stAng="5400000" swAng="-5400000"/>
                <a:lnTo>
                  <a:pt x="21600" y="796"/>
                </a:lnTo>
                <a:arcTo wR="796" hR="796" stAng="0" swAng="-5400000"/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Numérique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Analogiq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fr-FR" sz="1000" spc="-1" strike="noStrike">
                <a:solidFill>
                  <a:srgbClr val="ff0000"/>
                </a:solidFill>
                <a:latin typeface="Calibri"/>
              </a:rPr>
              <a:t>variation de la grandeur numérique d'entrée 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provoque </a:t>
            </a:r>
            <a:r>
              <a:rPr b="1" lang="fr-FR" sz="1000" spc="-1" strike="noStrike">
                <a:solidFill>
                  <a:srgbClr val="ff0000"/>
                </a:solidFill>
                <a:latin typeface="Calibri"/>
              </a:rPr>
              <a:t>la variation de la tension 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en sorti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La tension de sortie maximale (correspondant à la valeur maximale de la grandeur numérique) est aussi appelée </a:t>
            </a:r>
            <a:r>
              <a:rPr b="1" lang="fr-FR" sz="1000" spc="-1" strike="noStrike">
                <a:solidFill>
                  <a:srgbClr val="000000"/>
                </a:solidFill>
                <a:latin typeface="Calibri"/>
              </a:rPr>
              <a:t>"Pleine échelle de sortie"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On utilise pour cela un CNA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(Convertisseur  Numérique/ Analogique )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rcRect l="0" t="0" r="-10547" b="-4486"/>
          <a:stretch/>
        </p:blipFill>
        <p:spPr>
          <a:xfrm>
            <a:off x="5796000" y="2712960"/>
            <a:ext cx="1373040" cy="1182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7020000" y="3182760"/>
                <a:ext cx="78588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=N</m:t>
                    </m:r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MIT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6948360" y="2755800"/>
            <a:ext cx="158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n = Nombre de bits  sur lequel est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      codée la valeur numérique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       "N" d'entré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/>
          <p:nvPr/>
        </p:nvSpPr>
        <p:spPr>
          <a:xfrm>
            <a:off x="7228080" y="3505320"/>
            <a:ext cx="10375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fr-FR" sz="800" spc="-1" strike="noStrike" baseline="-25000">
                <a:solidFill>
                  <a:srgbClr val="000000"/>
                </a:solidFill>
                <a:latin typeface="Calibri"/>
              </a:rPr>
              <a:t>LIMIT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= Pleine échell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/>
          <p:nvPr/>
        </p:nvSpPr>
        <p:spPr>
          <a:xfrm>
            <a:off x="7391520" y="4422600"/>
            <a:ext cx="996840" cy="189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umér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/>
          <p:nvPr/>
        </p:nvSpPr>
        <p:spPr>
          <a:xfrm>
            <a:off x="7391520" y="4946760"/>
            <a:ext cx="996840" cy="214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nalog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779080" y="4316400"/>
            <a:ext cx="1716120" cy="1052280"/>
            <a:chOff x="5779080" y="4316400"/>
            <a:chExt cx="1716120" cy="1052280"/>
          </a:xfrm>
        </p:grpSpPr>
        <p:cxnSp>
          <p:nvCxnSpPr>
            <p:cNvPr id="356" name=""/>
            <p:cNvCxnSpPr/>
            <p:nvPr/>
          </p:nvCxnSpPr>
          <p:spPr>
            <a:xfrm>
              <a:off x="6166440" y="5271840"/>
              <a:ext cx="118332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57" name=""/>
            <p:cNvCxnSpPr/>
            <p:nvPr/>
          </p:nvCxnSpPr>
          <p:spPr>
            <a:xfrm flipV="1">
              <a:off x="6164640" y="4668480"/>
              <a:ext cx="1080" cy="612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58" name=""/>
            <p:cNvSpPr/>
            <p:nvPr/>
          </p:nvSpPr>
          <p:spPr>
            <a:xfrm>
              <a:off x="7281000" y="5149800"/>
              <a:ext cx="21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10560" y="4525920"/>
              <a:ext cx="27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V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28640" y="4773600"/>
              <a:ext cx="10749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39000" y="4316400"/>
              <a:ext cx="246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79080" y="4602240"/>
              <a:ext cx="3729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lang="fr-FR" sz="800" spc="-1" strike="noStrike" baseline="-25000">
                  <a:solidFill>
                    <a:srgbClr val="000000"/>
                  </a:solidFill>
                  <a:latin typeface="Calibri"/>
                </a:rPr>
                <a:t>LIMIT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28640" y="5205240"/>
              <a:ext cx="10749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28640" y="5132520"/>
              <a:ext cx="10749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8640" y="5060880"/>
              <a:ext cx="10749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28640" y="4989600"/>
              <a:ext cx="10749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128640" y="4916520"/>
              <a:ext cx="10749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128640" y="4844880"/>
              <a:ext cx="10749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83200" y="5153040"/>
              <a:ext cx="23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38080" y="4368960"/>
              <a:ext cx="10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344640" y="4368960"/>
              <a:ext cx="10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454080" y="4368960"/>
              <a:ext cx="10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9920" y="4368960"/>
              <a:ext cx="10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69720" y="4368960"/>
              <a:ext cx="10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75920" y="4368960"/>
              <a:ext cx="10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85000" y="4368960"/>
              <a:ext cx="10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91560" y="4368960"/>
              <a:ext cx="10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35920" y="4362480"/>
              <a:ext cx="10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79" name=""/>
            <p:cNvCxnSpPr>
              <a:stCxn id="370" idx="2"/>
            </p:cNvCxnSpPr>
            <p:nvPr/>
          </p:nvCxnSpPr>
          <p:spPr>
            <a:xfrm>
              <a:off x="6290280" y="4491000"/>
              <a:ext cx="1800" cy="791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80" name=""/>
            <p:cNvCxnSpPr>
              <a:stCxn id="371" idx="2"/>
            </p:cNvCxnSpPr>
            <p:nvPr/>
          </p:nvCxnSpPr>
          <p:spPr>
            <a:xfrm>
              <a:off x="6396480" y="4491000"/>
              <a:ext cx="1080" cy="72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81" name=""/>
            <p:cNvCxnSpPr>
              <a:stCxn id="372" idx="2"/>
            </p:cNvCxnSpPr>
            <p:nvPr/>
          </p:nvCxnSpPr>
          <p:spPr>
            <a:xfrm>
              <a:off x="6505560" y="4491000"/>
              <a:ext cx="1080" cy="6372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82" name=""/>
            <p:cNvCxnSpPr>
              <a:stCxn id="373" idx="2"/>
            </p:cNvCxnSpPr>
            <p:nvPr/>
          </p:nvCxnSpPr>
          <p:spPr>
            <a:xfrm>
              <a:off x="6612120" y="4491000"/>
              <a:ext cx="1080" cy="5673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83" name=""/>
            <p:cNvCxnSpPr>
              <a:stCxn id="374" idx="2"/>
            </p:cNvCxnSpPr>
            <p:nvPr/>
          </p:nvCxnSpPr>
          <p:spPr>
            <a:xfrm>
              <a:off x="6721560" y="4491000"/>
              <a:ext cx="1080" cy="4975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84" name=""/>
            <p:cNvCxnSpPr>
              <a:stCxn id="375" idx="2"/>
            </p:cNvCxnSpPr>
            <p:nvPr/>
          </p:nvCxnSpPr>
          <p:spPr>
            <a:xfrm>
              <a:off x="6827760" y="4491000"/>
              <a:ext cx="1080" cy="4248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85" name=""/>
            <p:cNvCxnSpPr>
              <a:stCxn id="376" idx="2"/>
            </p:cNvCxnSpPr>
            <p:nvPr/>
          </p:nvCxnSpPr>
          <p:spPr>
            <a:xfrm>
              <a:off x="6937200" y="4491000"/>
              <a:ext cx="1800" cy="357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86" name=""/>
            <p:cNvCxnSpPr>
              <a:stCxn id="377" idx="2"/>
            </p:cNvCxnSpPr>
            <p:nvPr/>
          </p:nvCxnSpPr>
          <p:spPr>
            <a:xfrm>
              <a:off x="7043760" y="4491000"/>
              <a:ext cx="2160" cy="286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>
              <a:stCxn id="378" idx="2"/>
            </p:cNvCxnSpPr>
            <p:nvPr/>
          </p:nvCxnSpPr>
          <p:spPr>
            <a:xfrm>
              <a:off x="7187760" y="4484520"/>
              <a:ext cx="1080" cy="457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88" name=""/>
            <p:cNvSpPr/>
            <p:nvPr/>
          </p:nvSpPr>
          <p:spPr>
            <a:xfrm>
              <a:off x="6287400" y="4770360"/>
              <a:ext cx="1010160" cy="500040"/>
            </a:xfrm>
            <a:custGeom>
              <a:avLst/>
              <a:gdLst/>
              <a:ahLst/>
              <a:rect l="l" t="t" r="r" b="b"/>
              <a:pathLst>
                <a:path w="1014074" h="502704">
                  <a:moveTo>
                    <a:pt x="0" y="498370"/>
                  </a:moveTo>
                  <a:lnTo>
                    <a:pt x="108341" y="502704"/>
                  </a:lnTo>
                  <a:lnTo>
                    <a:pt x="108341" y="433365"/>
                  </a:lnTo>
                  <a:lnTo>
                    <a:pt x="221016" y="433365"/>
                  </a:lnTo>
                  <a:lnTo>
                    <a:pt x="216683" y="355359"/>
                  </a:lnTo>
                  <a:lnTo>
                    <a:pt x="325024" y="351026"/>
                  </a:lnTo>
                  <a:lnTo>
                    <a:pt x="325024" y="286021"/>
                  </a:lnTo>
                  <a:lnTo>
                    <a:pt x="433365" y="281687"/>
                  </a:lnTo>
                  <a:lnTo>
                    <a:pt x="433365" y="216683"/>
                  </a:lnTo>
                  <a:lnTo>
                    <a:pt x="541706" y="216683"/>
                  </a:lnTo>
                  <a:lnTo>
                    <a:pt x="541706" y="143011"/>
                  </a:lnTo>
                  <a:lnTo>
                    <a:pt x="650047" y="143011"/>
                  </a:lnTo>
                  <a:lnTo>
                    <a:pt x="650047" y="73672"/>
                  </a:lnTo>
                  <a:lnTo>
                    <a:pt x="762722" y="73672"/>
                  </a:lnTo>
                  <a:lnTo>
                    <a:pt x="762722" y="0"/>
                  </a:lnTo>
                  <a:lnTo>
                    <a:pt x="905733" y="0"/>
                  </a:lnTo>
                  <a:lnTo>
                    <a:pt x="901399" y="151678"/>
                  </a:lnTo>
                  <a:lnTo>
                    <a:pt x="1014074" y="151678"/>
                  </a:lnTo>
                </a:path>
              </a:pathLst>
            </a:custGeom>
            <a:noFill/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96840" y="4764240"/>
              <a:ext cx="892800" cy="511200"/>
            </a:xfrm>
            <a:custGeom>
              <a:avLst/>
              <a:gdLst/>
              <a:ahLst/>
              <a:rect l="l" t="t" r="r" b="b"/>
              <a:pathLst>
                <a:path w="897066" h="514075">
                  <a:moveTo>
                    <a:pt x="0" y="514075"/>
                  </a:moveTo>
                  <a:cubicBezTo>
                    <a:pt x="249907" y="346507"/>
                    <a:pt x="681828" y="66265"/>
                    <a:pt x="749722" y="11372"/>
                  </a:cubicBezTo>
                  <a:cubicBezTo>
                    <a:pt x="817616" y="-43521"/>
                    <a:pt x="847951" y="115379"/>
                    <a:pt x="897066" y="16738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90" name=""/>
          <p:cNvCxnSpPr>
            <a:stCxn id="353" idx="2"/>
            <a:endCxn id="354" idx="0"/>
          </p:cNvCxnSpPr>
          <p:nvPr/>
        </p:nvCxnSpPr>
        <p:spPr>
          <a:xfrm>
            <a:off x="7889400" y="4611240"/>
            <a:ext cx="2520" cy="3358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91" name=""/>
          <p:cNvSpPr/>
          <p:nvPr/>
        </p:nvSpPr>
        <p:spPr>
          <a:xfrm>
            <a:off x="5867280" y="3933720"/>
            <a:ext cx="3025800" cy="382680"/>
          </a:xfrm>
          <a:prstGeom prst="roundRect">
            <a:avLst>
              <a:gd name="adj" fmla="val 51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Calibri"/>
              </a:rPr>
              <a:t>La tension délivrée par un CNA est discontinue (Tracé en BLEU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Calibri"/>
              </a:rPr>
              <a:t>Il faudra la lisser (Filtrage) pour obtenir une information analogiqu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193680"/>
            <a:ext cx="842472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"/>
          <p:cNvCxnSpPr/>
          <p:nvPr/>
        </p:nvCxnSpPr>
        <p:spPr>
          <a:xfrm>
            <a:off x="1025640" y="624960"/>
            <a:ext cx="21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/>
          <p:nvPr/>
        </p:nvCxnSpPr>
        <p:spPr>
          <a:xfrm>
            <a:off x="2362320" y="632880"/>
            <a:ext cx="21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/>
          <p:nvPr/>
        </p:nvCxnSpPr>
        <p:spPr>
          <a:xfrm>
            <a:off x="379368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518436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95280" y="1849320"/>
            <a:ext cx="8497800" cy="3529080"/>
          </a:xfrm>
          <a:prstGeom prst="roundRect">
            <a:avLst>
              <a:gd name="adj" fmla="val 4644"/>
            </a:avLst>
          </a:prstGeom>
          <a:noFill/>
          <a:ln w="381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éfinition générale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Moyen pour un individu de connaître son environneme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ource de connaissance sur un sujet donné, susceptible d'être représentée afin d'être conservée, traitée, communiquée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ction d'informer autrui ou de s'informer soi-même. Recherche que l'on fait pour s'assurer de la vérité d'une chose, pour connaître la conduite, les mœurs d'une personne, etc.   (</a:t>
            </a: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Source ptitdico.com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ans un système pluri technique, le plus simple est de donner quelques exemples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Grandeurs délivrées par des capteurs : Pression, température, niveau d'un liquide,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Grandeurs résultant d'un calcul : Valeur à afficher sur un écran, à transmettre à un autre systè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Fichier, image, vidéo, son,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"/>
          <p:cNvCxnSpPr/>
          <p:nvPr/>
        </p:nvCxnSpPr>
        <p:spPr>
          <a:xfrm>
            <a:off x="1025280" y="1417320"/>
            <a:ext cx="306720" cy="43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382680" y="912960"/>
            <a:ext cx="1287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éfini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1835280" y="912960"/>
            <a:ext cx="119700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Na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3203640" y="912960"/>
            <a:ext cx="1179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uppo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"/>
          <p:cNvCxnSpPr/>
          <p:nvPr/>
        </p:nvCxnSpPr>
        <p:spPr>
          <a:xfrm>
            <a:off x="658764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>
            <a:hlinkClick r:id="rId4" action="ppaction://hlinksldjump"/>
          </p:cNvPr>
          <p:cNvSpPr/>
          <p:nvPr/>
        </p:nvSpPr>
        <p:spPr>
          <a:xfrm>
            <a:off x="5940360" y="9129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Et l'énergie dans tout çà …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>
            <a:hlinkClick r:id="rId5" action="ppaction://hlinksldjump"/>
          </p:cNvPr>
          <p:cNvSpPr/>
          <p:nvPr/>
        </p:nvSpPr>
        <p:spPr>
          <a:xfrm>
            <a:off x="4572000" y="91296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Modul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"/>
          <p:cNvCxnSpPr/>
          <p:nvPr/>
        </p:nvCxnSpPr>
        <p:spPr>
          <a:xfrm>
            <a:off x="8098920" y="623880"/>
            <a:ext cx="396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>
            <a:hlinkClick r:id="rId6" action="ppaction://hlinksldjump"/>
          </p:cNvPr>
          <p:cNvSpPr/>
          <p:nvPr/>
        </p:nvSpPr>
        <p:spPr>
          <a:xfrm>
            <a:off x="7451640" y="9111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Convers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95280" y="193680"/>
            <a:ext cx="842472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849320"/>
            <a:ext cx="8497800" cy="3529080"/>
          </a:xfrm>
          <a:prstGeom prst="roundRect">
            <a:avLst>
              <a:gd name="adj" fmla="val 4644"/>
            </a:avLst>
          </a:prstGeom>
          <a:noFill/>
          <a:ln w="381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es informations traitées dans un système pluri technique sont globalement de 3 natures différentes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"/>
          <p:cNvCxnSpPr/>
          <p:nvPr/>
        </p:nvCxnSpPr>
        <p:spPr>
          <a:xfrm>
            <a:off x="2340000" y="1417320"/>
            <a:ext cx="326160" cy="43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539640" y="2209680"/>
            <a:ext cx="2592360" cy="3095640"/>
          </a:xfrm>
          <a:custGeom>
            <a:avLst/>
            <a:gdLst>
              <a:gd name="textAreaLeft" fmla="*/ 27720 w 2592360"/>
              <a:gd name="textAreaRight" fmla="*/ 2564640 w 2592360"/>
              <a:gd name="textAreaTop" fmla="*/ 27720 h 3095640"/>
              <a:gd name="textAreaBottom" fmla="*/ 3067920 h 3095640"/>
            </a:gdLst>
            <a:ahLst/>
            <a:rect l="textAreaLeft" t="textAreaTop" r="textAreaRight" b="textAreaBottom"/>
            <a:pathLst>
              <a:path w="21600" h="25793">
                <a:moveTo>
                  <a:pt x="796" y="0"/>
                </a:moveTo>
                <a:arcTo wR="796" hR="796" stAng="16200000" swAng="-5400000"/>
                <a:lnTo>
                  <a:pt x="0" y="24997"/>
                </a:lnTo>
                <a:arcTo wR="796" hR="796" stAng="10800000" swAng="-5400000"/>
                <a:lnTo>
                  <a:pt x="20804" y="25793"/>
                </a:lnTo>
                <a:arcTo wR="796" hR="796" stAng="5400000" swAng="-5400000"/>
                <a:lnTo>
                  <a:pt x="21600" y="796"/>
                </a:lnTo>
                <a:arcTo wR="796" hR="796" stAng="0" swAng="-5400000"/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nalog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l s'agit d'information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ont la variation se fait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n continu, c’est-à-dir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sans saut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MARQUE : Le nombre de valeurs que peut prendre ce type d'information est INFINI 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2324" t="0" r="39730" b="54258"/>
          <a:stretch/>
        </p:blipFill>
        <p:spPr>
          <a:xfrm>
            <a:off x="611280" y="3289320"/>
            <a:ext cx="1946160" cy="1308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348000" y="2209680"/>
            <a:ext cx="2592360" cy="3095640"/>
          </a:xfrm>
          <a:custGeom>
            <a:avLst/>
            <a:gdLst>
              <a:gd name="textAreaLeft" fmla="*/ 27720 w 2592360"/>
              <a:gd name="textAreaRight" fmla="*/ 2564640 w 2592360"/>
              <a:gd name="textAreaTop" fmla="*/ 27720 h 3095640"/>
              <a:gd name="textAreaBottom" fmla="*/ 3067920 h 3095640"/>
            </a:gdLst>
            <a:ahLst/>
            <a:rect l="textAreaLeft" t="textAreaTop" r="textAreaRight" b="textAreaBottom"/>
            <a:pathLst>
              <a:path w="21600" h="25793">
                <a:moveTo>
                  <a:pt x="796" y="0"/>
                </a:moveTo>
                <a:arcTo wR="796" hR="796" stAng="16200000" swAng="-5400000"/>
                <a:lnTo>
                  <a:pt x="0" y="24997"/>
                </a:lnTo>
                <a:arcTo wR="796" hR="796" stAng="10800000" swAng="-5400000"/>
                <a:lnTo>
                  <a:pt x="20804" y="25793"/>
                </a:lnTo>
                <a:arcTo wR="796" hR="796" stAng="5400000" swAng="-5400000"/>
                <a:lnTo>
                  <a:pt x="21600" y="796"/>
                </a:lnTo>
                <a:arcTo wR="796" hR="796" stAng="0" swAng="-5400000"/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og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l s'agit d'informations 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ui ne peuvent prendr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ue 2 valeurs (ou états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différent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ouvent ces 2 états sont représentés par 2 nombres : "0" ou "1" ou par les termes "Vrai" (True) ou "Faux" (False) quand l'information est le résultat d'une question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6156360" y="2193840"/>
            <a:ext cx="2592360" cy="3095640"/>
          </a:xfrm>
          <a:custGeom>
            <a:avLst/>
            <a:gdLst>
              <a:gd name="textAreaLeft" fmla="*/ 27720 w 2592360"/>
              <a:gd name="textAreaRight" fmla="*/ 2564640 w 2592360"/>
              <a:gd name="textAreaTop" fmla="*/ 27720 h 3095640"/>
              <a:gd name="textAreaBottom" fmla="*/ 3067920 h 3095640"/>
            </a:gdLst>
            <a:ahLst/>
            <a:rect l="textAreaLeft" t="textAreaTop" r="textAreaRight" b="textAreaBottom"/>
            <a:pathLst>
              <a:path w="21600" h="25793">
                <a:moveTo>
                  <a:pt x="796" y="0"/>
                </a:moveTo>
                <a:arcTo wR="796" hR="796" stAng="16200000" swAng="-5400000"/>
                <a:lnTo>
                  <a:pt x="0" y="24997"/>
                </a:lnTo>
                <a:arcTo wR="796" hR="796" stAng="10800000" swAng="-5400000"/>
                <a:lnTo>
                  <a:pt x="20804" y="25793"/>
                </a:lnTo>
                <a:arcTo wR="796" hR="796" stAng="5400000" swAng="-5400000"/>
                <a:lnTo>
                  <a:pt x="21600" y="796"/>
                </a:lnTo>
                <a:arcTo wR="796" hR="796" stAng="0" swAng="-5400000"/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umér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l s'agit d'information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ont la variation 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iscontinue,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’est-à-dire par saut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 type d'information est en général représentée par un nombre ENTI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0" t="13086" r="8582" b="10543"/>
          <a:stretch/>
        </p:blipFill>
        <p:spPr>
          <a:xfrm>
            <a:off x="3449520" y="3289320"/>
            <a:ext cx="1656000" cy="1038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0" t="12762" r="10968" b="9771"/>
          <a:stretch/>
        </p:blipFill>
        <p:spPr>
          <a:xfrm>
            <a:off x="6227640" y="3289320"/>
            <a:ext cx="1765440" cy="1152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rcRect l="62756" t="33128" r="9600" b="33743"/>
          <a:stretch/>
        </p:blipFill>
        <p:spPr>
          <a:xfrm>
            <a:off x="5037120" y="2525760"/>
            <a:ext cx="887400" cy="795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716960" y="2525760"/>
            <a:ext cx="982440" cy="64764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6" action="ppaction://hlinksldjump"/>
          </p:cNvPr>
          <p:cNvSpPr/>
          <p:nvPr/>
        </p:nvSpPr>
        <p:spPr>
          <a:xfrm>
            <a:off x="6272280" y="4861080"/>
            <a:ext cx="2403360" cy="360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Il y a un lien avec les informations logiques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"/>
          <p:cNvCxnSpPr/>
          <p:nvPr/>
        </p:nvCxnSpPr>
        <p:spPr>
          <a:xfrm>
            <a:off x="1025640" y="624960"/>
            <a:ext cx="21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/>
          <p:nvPr/>
        </p:nvCxnSpPr>
        <p:spPr>
          <a:xfrm>
            <a:off x="2362320" y="632880"/>
            <a:ext cx="21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/>
          <p:nvPr/>
        </p:nvCxnSpPr>
        <p:spPr>
          <a:xfrm>
            <a:off x="379368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/>
          <p:nvPr/>
        </p:nvCxnSpPr>
        <p:spPr>
          <a:xfrm>
            <a:off x="518436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>
            <a:hlinkClick r:id="rId7" action="ppaction://hlinksldjump"/>
          </p:cNvPr>
          <p:cNvSpPr/>
          <p:nvPr/>
        </p:nvSpPr>
        <p:spPr>
          <a:xfrm>
            <a:off x="382680" y="912960"/>
            <a:ext cx="1287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éfini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>
            <a:hlinkClick r:id="rId8" action="ppaction://hlinksldjump"/>
          </p:cNvPr>
          <p:cNvSpPr/>
          <p:nvPr/>
        </p:nvSpPr>
        <p:spPr>
          <a:xfrm>
            <a:off x="1835280" y="912960"/>
            <a:ext cx="119700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Na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>
            <a:hlinkClick r:id="rId9" action="ppaction://hlinksldjump"/>
          </p:cNvPr>
          <p:cNvSpPr/>
          <p:nvPr/>
        </p:nvSpPr>
        <p:spPr>
          <a:xfrm>
            <a:off x="3203640" y="912960"/>
            <a:ext cx="1179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uppo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"/>
          <p:cNvCxnSpPr/>
          <p:nvPr/>
        </p:nvCxnSpPr>
        <p:spPr>
          <a:xfrm>
            <a:off x="658764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>
            <a:hlinkClick r:id="rId10" action="ppaction://hlinksldjump"/>
          </p:cNvPr>
          <p:cNvSpPr/>
          <p:nvPr/>
        </p:nvSpPr>
        <p:spPr>
          <a:xfrm>
            <a:off x="5940360" y="9129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Et l'énergie dans tout çà …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>
            <a:hlinkClick r:id="rId11" action="ppaction://hlinksldjump"/>
          </p:cNvPr>
          <p:cNvSpPr/>
          <p:nvPr/>
        </p:nvSpPr>
        <p:spPr>
          <a:xfrm>
            <a:off x="4572000" y="91296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Modul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2"/>
          <a:stretch/>
        </p:blipFill>
        <p:spPr>
          <a:xfrm>
            <a:off x="2097000" y="2496960"/>
            <a:ext cx="962280" cy="959040"/>
          </a:xfrm>
          <a:prstGeom prst="rect">
            <a:avLst/>
          </a:prstGeom>
          <a:ln w="0">
            <a:noFill/>
          </a:ln>
        </p:spPr>
      </p:pic>
      <p:cxnSp>
        <p:nvCxnSpPr>
          <p:cNvPr id="92" name=""/>
          <p:cNvCxnSpPr/>
          <p:nvPr/>
        </p:nvCxnSpPr>
        <p:spPr>
          <a:xfrm>
            <a:off x="8098920" y="623880"/>
            <a:ext cx="396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>
            <a:hlinkClick r:id="rId13" action="ppaction://hlinksldjump"/>
          </p:cNvPr>
          <p:cNvSpPr/>
          <p:nvPr/>
        </p:nvSpPr>
        <p:spPr>
          <a:xfrm>
            <a:off x="7451640" y="9111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Convers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5280" y="193680"/>
            <a:ext cx="842472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849320"/>
            <a:ext cx="8497800" cy="3529080"/>
          </a:xfrm>
          <a:prstGeom prst="roundRect">
            <a:avLst>
              <a:gd name="adj" fmla="val 4644"/>
            </a:avLst>
          </a:prstGeom>
          <a:noFill/>
          <a:ln w="381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e support d'une information est la grandeur électrique qui permet de la transporter.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Une analogie simple est celle d'un camion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marchandises sont l'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camion est le sup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ans les systèmes pluri techniques, les 3 supports les plus employés sont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ension électr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urant électr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umière (liaisons optiqu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"/>
          <p:cNvCxnSpPr/>
          <p:nvPr/>
        </p:nvCxnSpPr>
        <p:spPr>
          <a:xfrm>
            <a:off x="3803760" y="1417320"/>
            <a:ext cx="303840" cy="43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1025640" y="624960"/>
            <a:ext cx="21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/>
          <p:nvPr/>
        </p:nvCxnSpPr>
        <p:spPr>
          <a:xfrm>
            <a:off x="2362320" y="632880"/>
            <a:ext cx="21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379368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>
            <a:off x="518436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382680" y="912960"/>
            <a:ext cx="1287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éfini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1835280" y="912960"/>
            <a:ext cx="119700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Na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3203640" y="912960"/>
            <a:ext cx="1179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uppo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"/>
          <p:cNvCxnSpPr/>
          <p:nvPr/>
        </p:nvCxnSpPr>
        <p:spPr>
          <a:xfrm>
            <a:off x="658764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5940360" y="9129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Et l'énergie dans tout çà …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921280" y="1920960"/>
            <a:ext cx="938160" cy="703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908000" y="3479760"/>
            <a:ext cx="501840" cy="457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2433600" y="4062240"/>
            <a:ext cx="598680" cy="59544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rId8" action="ppaction://hlinksldjump"/>
          </p:cNvPr>
          <p:cNvSpPr/>
          <p:nvPr/>
        </p:nvSpPr>
        <p:spPr>
          <a:xfrm>
            <a:off x="4572000" y="91296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Modul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"/>
          <p:cNvCxnSpPr/>
          <p:nvPr/>
        </p:nvCxnSpPr>
        <p:spPr>
          <a:xfrm>
            <a:off x="8098920" y="623880"/>
            <a:ext cx="396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>
            <a:hlinkClick r:id="rId9" action="ppaction://hlinksldjump"/>
          </p:cNvPr>
          <p:cNvSpPr/>
          <p:nvPr/>
        </p:nvSpPr>
        <p:spPr>
          <a:xfrm>
            <a:off x="7451640" y="9111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Convers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5280" y="193680"/>
            <a:ext cx="842472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1849320"/>
            <a:ext cx="8497800" cy="3529080"/>
          </a:xfrm>
          <a:prstGeom prst="roundRect">
            <a:avLst>
              <a:gd name="adj" fmla="val 4644"/>
            </a:avLst>
          </a:prstGeom>
          <a:noFill/>
          <a:ln w="381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oduler veut dire "Faire varier". Cela permet d'expliquer </a:t>
            </a:r>
            <a:r>
              <a:rPr b="1" lang="fr-FR" sz="1200" spc="-1" strike="noStrike">
                <a:solidFill>
                  <a:srgbClr val="ff0000"/>
                </a:solidFill>
                <a:latin typeface="Calibri"/>
              </a:rPr>
              <a:t>quel paramètre du signal électrique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upport de l'information </a:t>
            </a:r>
            <a:r>
              <a:rPr b="1" lang="fr-FR" sz="1200" spc="-1" strike="noStrike">
                <a:solidFill>
                  <a:srgbClr val="ff0000"/>
                </a:solidFill>
                <a:latin typeface="Calibri"/>
              </a:rPr>
              <a:t>varie en fonction de la valeur de l'informatio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 transporté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moyen le plus simple pour transporter une information consiste à faire varier directement la VALEUR (Tension ou Intensité) du support employé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"/>
          <p:cNvCxnSpPr/>
          <p:nvPr/>
        </p:nvCxnSpPr>
        <p:spPr>
          <a:xfrm flipH="1">
            <a:off x="4931640" y="1417320"/>
            <a:ext cx="253080" cy="43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/>
          <p:nvPr/>
        </p:nvCxnSpPr>
        <p:spPr>
          <a:xfrm>
            <a:off x="1025640" y="624960"/>
            <a:ext cx="21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/>
          <p:nvPr/>
        </p:nvCxnSpPr>
        <p:spPr>
          <a:xfrm>
            <a:off x="2362320" y="632880"/>
            <a:ext cx="21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/>
          <p:nvPr/>
        </p:nvCxnSpPr>
        <p:spPr>
          <a:xfrm>
            <a:off x="379368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>
            <a:off x="518436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382680" y="912960"/>
            <a:ext cx="1287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éfini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1835280" y="912960"/>
            <a:ext cx="119700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Na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3203640" y="912960"/>
            <a:ext cx="1179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uppo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58764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5940360" y="9129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Et l'énergie dans tout çà …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4572000" y="91296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Modul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538200" y="2786040"/>
            <a:ext cx="2593800" cy="2516040"/>
          </a:xfrm>
          <a:prstGeom prst="roundRect">
            <a:avLst>
              <a:gd name="adj" fmla="val 3685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nalogiq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rcRect l="12324" t="0" r="39730" b="54258"/>
          <a:stretch/>
        </p:blipFill>
        <p:spPr>
          <a:xfrm>
            <a:off x="1635120" y="3130560"/>
            <a:ext cx="1441440" cy="96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rcRect l="12324" t="0" r="39730" b="54258"/>
          <a:stretch/>
        </p:blipFill>
        <p:spPr>
          <a:xfrm>
            <a:off x="1635120" y="4249800"/>
            <a:ext cx="1441440" cy="968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77920" y="3598920"/>
            <a:ext cx="417600" cy="1133280"/>
          </a:xfrm>
          <a:custGeom>
            <a:avLst/>
            <a:gdLst/>
            <a:ahLst/>
            <a:rect l="l" t="t" r="r" b="b"/>
            <a:pathLst>
              <a:path w="416967" h="1133856">
                <a:moveTo>
                  <a:pt x="343815" y="0"/>
                </a:moveTo>
                <a:cubicBezTo>
                  <a:pt x="121920" y="173127"/>
                  <a:pt x="31700" y="251154"/>
                  <a:pt x="0" y="504749"/>
                </a:cubicBezTo>
                <a:cubicBezTo>
                  <a:pt x="12192" y="693725"/>
                  <a:pt x="170688" y="929031"/>
                  <a:pt x="416967" y="11338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624240" y="3362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573480" y="47401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ignal trans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01840" y="2786040"/>
            <a:ext cx="2594160" cy="2232000"/>
          </a:xfrm>
          <a:prstGeom prst="roundRect">
            <a:avLst>
              <a:gd name="adj" fmla="val 3685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ogiq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3841920" y="3598920"/>
            <a:ext cx="417240" cy="954000"/>
          </a:xfrm>
          <a:custGeom>
            <a:avLst/>
            <a:gdLst/>
            <a:ahLst/>
            <a:rect l="l" t="t" r="r" b="b"/>
            <a:pathLst>
              <a:path w="416967" h="1133856">
                <a:moveTo>
                  <a:pt x="343815" y="0"/>
                </a:moveTo>
                <a:cubicBezTo>
                  <a:pt x="121920" y="173127"/>
                  <a:pt x="31700" y="251154"/>
                  <a:pt x="0" y="504749"/>
                </a:cubicBezTo>
                <a:cubicBezTo>
                  <a:pt x="12192" y="693725"/>
                  <a:pt x="170688" y="929031"/>
                  <a:pt x="416967" y="11338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3288240" y="3362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3237120" y="45133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ignal trans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8"/>
          <a:srcRect l="0" t="13075" r="8591" b="10550"/>
          <a:stretch/>
        </p:blipFill>
        <p:spPr>
          <a:xfrm>
            <a:off x="4348080" y="4118040"/>
            <a:ext cx="1376280" cy="861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070160" y="414972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5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4070160" y="476712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9"/>
          <a:srcRect l="0" t="13075" r="8591" b="10550"/>
          <a:stretch/>
        </p:blipFill>
        <p:spPr>
          <a:xfrm>
            <a:off x="4348080" y="3162240"/>
            <a:ext cx="1376280" cy="862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071600" y="3193920"/>
            <a:ext cx="34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"1"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4071600" y="3811680"/>
            <a:ext cx="34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"0"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5938920" y="2789280"/>
            <a:ext cx="2593800" cy="2228760"/>
          </a:xfrm>
          <a:prstGeom prst="roundRect">
            <a:avLst>
              <a:gd name="adj" fmla="val 3685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Numériq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6578640" y="3602160"/>
            <a:ext cx="415800" cy="950760"/>
          </a:xfrm>
          <a:custGeom>
            <a:avLst/>
            <a:gdLst/>
            <a:ahLst/>
            <a:rect l="l" t="t" r="r" b="b"/>
            <a:pathLst>
              <a:path w="416967" h="1133856">
                <a:moveTo>
                  <a:pt x="343815" y="0"/>
                </a:moveTo>
                <a:cubicBezTo>
                  <a:pt x="121920" y="173127"/>
                  <a:pt x="31700" y="251154"/>
                  <a:pt x="0" y="504749"/>
                </a:cubicBezTo>
                <a:cubicBezTo>
                  <a:pt x="12192" y="693725"/>
                  <a:pt x="170688" y="929031"/>
                  <a:pt x="416967" y="11338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6023160" y="33656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5972400" y="452448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ignal trans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6806880" y="415296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5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6806880" y="477216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7034040" y="3279600"/>
            <a:ext cx="1292400" cy="470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06880" y="3816360"/>
            <a:ext cx="34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"0"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1"/>
          <a:srcRect l="0" t="12751" r="10957" b="9771"/>
          <a:stretch/>
        </p:blipFill>
        <p:spPr>
          <a:xfrm>
            <a:off x="7149960" y="4165560"/>
            <a:ext cx="1230480" cy="80496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12" action="ppaction://hlinksldjump"/>
          </p:cNvPr>
          <p:cNvSpPr/>
          <p:nvPr/>
        </p:nvSpPr>
        <p:spPr>
          <a:xfrm>
            <a:off x="3203640" y="5089680"/>
            <a:ext cx="5329080" cy="215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Il existe d'autres moyens  : voici quelques autres exemples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1" name=""/>
          <p:cNvCxnSpPr/>
          <p:nvPr/>
        </p:nvCxnSpPr>
        <p:spPr>
          <a:xfrm>
            <a:off x="8098920" y="623880"/>
            <a:ext cx="396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>
            <a:hlinkClick r:id="rId13" action="ppaction://hlinksldjump"/>
          </p:cNvPr>
          <p:cNvSpPr/>
          <p:nvPr/>
        </p:nvSpPr>
        <p:spPr>
          <a:xfrm>
            <a:off x="7451640" y="9111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Convers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95280" y="193680"/>
            <a:ext cx="842472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4" name=""/>
          <p:cNvCxnSpPr/>
          <p:nvPr/>
        </p:nvCxnSpPr>
        <p:spPr>
          <a:xfrm>
            <a:off x="6633720" y="1417320"/>
            <a:ext cx="315000" cy="43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/>
          <p:nvPr/>
        </p:nvCxnSpPr>
        <p:spPr>
          <a:xfrm>
            <a:off x="1025640" y="624960"/>
            <a:ext cx="21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/>
          <p:nvPr/>
        </p:nvCxnSpPr>
        <p:spPr>
          <a:xfrm>
            <a:off x="2362320" y="632880"/>
            <a:ext cx="21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/>
          <p:nvPr/>
        </p:nvCxnSpPr>
        <p:spPr>
          <a:xfrm>
            <a:off x="379368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/>
          <p:nvPr/>
        </p:nvCxnSpPr>
        <p:spPr>
          <a:xfrm>
            <a:off x="518436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382680" y="912960"/>
            <a:ext cx="1287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éfini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1835280" y="912960"/>
            <a:ext cx="119700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Na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>
            <a:hlinkClick r:id="rId3" action="ppaction://hlinksldjump"/>
          </p:cNvPr>
          <p:cNvSpPr/>
          <p:nvPr/>
        </p:nvSpPr>
        <p:spPr>
          <a:xfrm>
            <a:off x="3203640" y="912960"/>
            <a:ext cx="1179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uppo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"/>
          <p:cNvCxnSpPr/>
          <p:nvPr/>
        </p:nvCxnSpPr>
        <p:spPr>
          <a:xfrm>
            <a:off x="658764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>
            <a:hlinkClick r:id="rId4" action="ppaction://hlinksldjump"/>
          </p:cNvPr>
          <p:cNvSpPr/>
          <p:nvPr/>
        </p:nvSpPr>
        <p:spPr>
          <a:xfrm>
            <a:off x="5940360" y="9129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Et l'énergie dans tout çà …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>
            <a:hlinkClick r:id="rId5" action="ppaction://hlinksldjump"/>
          </p:cNvPr>
          <p:cNvSpPr/>
          <p:nvPr/>
        </p:nvSpPr>
        <p:spPr>
          <a:xfrm>
            <a:off x="4572000" y="91296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Modul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849320"/>
            <a:ext cx="8497800" cy="3529080"/>
          </a:xfrm>
          <a:prstGeom prst="roundRect">
            <a:avLst>
              <a:gd name="adj" fmla="val 4644"/>
            </a:avLst>
          </a:prstGeom>
          <a:noFill/>
          <a:ln w="381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ans un système pluri technique l'information est souvent transportée à l'aide de tensions ou de courants, ALORS comment fait on pour différentier une liaison électrique transportant des informations d'une liaison électrique transportant de l'énergie ?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'est simple, il s'agit d'une question de puissance 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Quand la puissance transportée sur la liaison électrique est très faible  ou nulle, la liaison transporte sûrement des informa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(Quand le courant transmis est quasi nul par exemp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ans le cas contraire il  s'agit sûrement d'une liaison de puissance …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/>
          <p:nvPr/>
        </p:nvCxnSpPr>
        <p:spPr>
          <a:xfrm>
            <a:off x="8098920" y="623880"/>
            <a:ext cx="396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>
            <a:hlinkClick r:id="rId6" action="ppaction://hlinksldjump"/>
          </p:cNvPr>
          <p:cNvSpPr/>
          <p:nvPr/>
        </p:nvSpPr>
        <p:spPr>
          <a:xfrm>
            <a:off x="7451640" y="9111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Convers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03280" y="193680"/>
            <a:ext cx="741672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108000" y="193680"/>
            <a:ext cx="122220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etou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142920" y="871560"/>
            <a:ext cx="8677080" cy="4506840"/>
          </a:xfrm>
          <a:prstGeom prst="roundRect">
            <a:avLst>
              <a:gd name="adj" fmla="val 4644"/>
            </a:avLst>
          </a:prstGeom>
          <a:noFill/>
          <a:ln w="381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l existe d'autres moyens (modulations) de transporter une information 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30200" y="1704960"/>
            <a:ext cx="277344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61080" y="1197000"/>
            <a:ext cx="280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n peut faire varier la fréquence du signal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électrique en fonction de l'information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5690880" y="942840"/>
            <a:ext cx="283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n peut faire varier l'amplitude d'un signal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électrique de fréquence fixe en fonc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de l'information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745240" y="1589040"/>
            <a:ext cx="2859120" cy="79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889600" y="2455920"/>
            <a:ext cx="2664000" cy="180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3419640" y="2136600"/>
            <a:ext cx="2232000" cy="1513080"/>
          </a:xfrm>
          <a:prstGeom prst="roundRect">
            <a:avLst>
              <a:gd name="adj" fmla="val 51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ATTENTION : 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Dans ces cas une observation directe du signal électrique ne permet plus de connaitre la nature de l'informat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579600" y="4405320"/>
            <a:ext cx="7953120" cy="684360"/>
          </a:xfrm>
          <a:prstGeom prst="roundRect">
            <a:avLst>
              <a:gd name="adj" fmla="val 5116"/>
            </a:avLst>
          </a:prstGeom>
          <a:solidFill>
            <a:srgbClr val="ffc000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n effet si l'on se contente d'observer l'allure des 3 signaux donnés en exemple, on pense que l'information transmise est analogique, OR ce n'est pas le cas dans les 3 exemples !!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403280" y="193680"/>
            <a:ext cx="741672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108000" y="193680"/>
            <a:ext cx="122220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etou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142920" y="871560"/>
            <a:ext cx="8677080" cy="4506840"/>
          </a:xfrm>
          <a:prstGeom prst="roundRect">
            <a:avLst>
              <a:gd name="adj" fmla="val 4644"/>
            </a:avLst>
          </a:prstGeom>
          <a:noFill/>
          <a:ln w="381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n effet il existe un lien entre information logique et information numérique car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i on utilise plusieurs liaisons électriques, chacune transportant UNE information logique on se retrouve dans le cas suivant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mple avec 3 informations logiques : S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,S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et S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81800" y="1747800"/>
            <a:ext cx="4179960" cy="636840"/>
            <a:chOff x="181800" y="1747800"/>
            <a:chExt cx="4179960" cy="636840"/>
          </a:xfrm>
        </p:grpSpPr>
        <p:cxnSp>
          <p:nvCxnSpPr>
            <p:cNvPr id="182" name=""/>
            <p:cNvCxnSpPr/>
            <p:nvPr/>
          </p:nvCxnSpPr>
          <p:spPr>
            <a:xfrm flipV="1">
              <a:off x="610560" y="1775520"/>
              <a:ext cx="1080" cy="4294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/>
            <p:nvPr/>
          </p:nvCxnSpPr>
          <p:spPr>
            <a:xfrm>
              <a:off x="610920" y="2209320"/>
              <a:ext cx="359640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84" name=""/>
            <p:cNvSpPr/>
            <p:nvPr/>
          </p:nvSpPr>
          <p:spPr>
            <a:xfrm>
              <a:off x="4138200" y="2138400"/>
              <a:ext cx="22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5280" y="20653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5280" y="17478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1800" y="1849320"/>
              <a:ext cx="295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fr-FR" sz="12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81800" y="2281320"/>
            <a:ext cx="4179960" cy="636840"/>
            <a:chOff x="181800" y="2281320"/>
            <a:chExt cx="4179960" cy="636840"/>
          </a:xfrm>
        </p:grpSpPr>
        <p:cxnSp>
          <p:nvCxnSpPr>
            <p:cNvPr id="189" name=""/>
            <p:cNvCxnSpPr/>
            <p:nvPr/>
          </p:nvCxnSpPr>
          <p:spPr>
            <a:xfrm flipV="1">
              <a:off x="610560" y="2309040"/>
              <a:ext cx="1080" cy="4294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/>
            <p:nvPr/>
          </p:nvCxnSpPr>
          <p:spPr>
            <a:xfrm>
              <a:off x="610920" y="2742840"/>
              <a:ext cx="359640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91" name=""/>
            <p:cNvSpPr/>
            <p:nvPr/>
          </p:nvSpPr>
          <p:spPr>
            <a:xfrm>
              <a:off x="4138200" y="2671920"/>
              <a:ext cx="22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5280" y="25988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5280" y="22813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1800" y="2382840"/>
              <a:ext cx="295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fr-FR" sz="12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81800" y="2786040"/>
            <a:ext cx="4179960" cy="636840"/>
            <a:chOff x="181800" y="2786040"/>
            <a:chExt cx="4179960" cy="636840"/>
          </a:xfrm>
        </p:grpSpPr>
        <p:cxnSp>
          <p:nvCxnSpPr>
            <p:cNvPr id="196" name=""/>
            <p:cNvCxnSpPr/>
            <p:nvPr/>
          </p:nvCxnSpPr>
          <p:spPr>
            <a:xfrm flipV="1">
              <a:off x="610560" y="2812320"/>
              <a:ext cx="1080" cy="4294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97" name=""/>
            <p:cNvCxnSpPr/>
            <p:nvPr/>
          </p:nvCxnSpPr>
          <p:spPr>
            <a:xfrm>
              <a:off x="610920" y="3247560"/>
              <a:ext cx="359640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98" name=""/>
            <p:cNvSpPr/>
            <p:nvPr/>
          </p:nvSpPr>
          <p:spPr>
            <a:xfrm>
              <a:off x="4138200" y="3176640"/>
              <a:ext cx="22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5280" y="31035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52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1800" y="2887560"/>
              <a:ext cx="295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fr-FR" sz="12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971640" y="1849320"/>
            <a:ext cx="1440" cy="15004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/>
          <p:nvPr/>
        </p:nvSpPr>
        <p:spPr>
          <a:xfrm>
            <a:off x="1332000" y="1849320"/>
            <a:ext cx="1440" cy="15004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1692360" y="1849320"/>
            <a:ext cx="1440" cy="15004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2050920" y="1849320"/>
            <a:ext cx="1800" cy="15004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1849320"/>
            <a:ext cx="1800" cy="15004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849320"/>
            <a:ext cx="1800" cy="15004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1849320"/>
            <a:ext cx="1800" cy="15004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1849320"/>
            <a:ext cx="1800" cy="15004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603360" y="1943280"/>
            <a:ext cx="2889000" cy="266400"/>
          </a:xfrm>
          <a:custGeom>
            <a:avLst/>
            <a:gdLst/>
            <a:ahLst/>
            <a:rect l="l" t="t" r="r" b="b"/>
            <a:pathLst>
              <a:path w="2889250" h="266700">
                <a:moveTo>
                  <a:pt x="0" y="266700"/>
                </a:moveTo>
                <a:lnTo>
                  <a:pt x="368300" y="260350"/>
                </a:lnTo>
                <a:lnTo>
                  <a:pt x="374650" y="0"/>
                </a:lnTo>
                <a:lnTo>
                  <a:pt x="730250" y="0"/>
                </a:lnTo>
                <a:lnTo>
                  <a:pt x="730250" y="266700"/>
                </a:lnTo>
                <a:lnTo>
                  <a:pt x="1085850" y="266700"/>
                </a:lnTo>
                <a:lnTo>
                  <a:pt x="1085850" y="0"/>
                </a:lnTo>
                <a:lnTo>
                  <a:pt x="1447800" y="0"/>
                </a:lnTo>
                <a:lnTo>
                  <a:pt x="1460500" y="266700"/>
                </a:lnTo>
                <a:lnTo>
                  <a:pt x="1809750" y="260350"/>
                </a:lnTo>
                <a:lnTo>
                  <a:pt x="1809750" y="6350"/>
                </a:lnTo>
                <a:lnTo>
                  <a:pt x="2171700" y="6350"/>
                </a:lnTo>
                <a:lnTo>
                  <a:pt x="2171700" y="266700"/>
                </a:lnTo>
                <a:lnTo>
                  <a:pt x="2527300" y="260350"/>
                </a:lnTo>
                <a:lnTo>
                  <a:pt x="2527300" y="6350"/>
                </a:lnTo>
                <a:lnTo>
                  <a:pt x="2889250" y="6350"/>
                </a:lnTo>
                <a:lnTo>
                  <a:pt x="2889250" y="266700"/>
                </a:lnTo>
              </a:path>
            </a:pathLst>
          </a:cu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2476440"/>
            <a:ext cx="2882880" cy="266760"/>
          </a:xfrm>
          <a:custGeom>
            <a:avLst/>
            <a:gdLst/>
            <a:ahLst/>
            <a:rect l="l" t="t" r="r" b="b"/>
            <a:pathLst>
              <a:path w="2882900" h="266700">
                <a:moveTo>
                  <a:pt x="0" y="260350"/>
                </a:moveTo>
                <a:lnTo>
                  <a:pt x="723900" y="266700"/>
                </a:lnTo>
                <a:lnTo>
                  <a:pt x="723900" y="0"/>
                </a:lnTo>
                <a:lnTo>
                  <a:pt x="1441450" y="6350"/>
                </a:lnTo>
                <a:lnTo>
                  <a:pt x="1435100" y="266700"/>
                </a:lnTo>
                <a:lnTo>
                  <a:pt x="2165350" y="266700"/>
                </a:lnTo>
                <a:lnTo>
                  <a:pt x="2159000" y="0"/>
                </a:lnTo>
                <a:lnTo>
                  <a:pt x="2882900" y="0"/>
                </a:lnTo>
                <a:lnTo>
                  <a:pt x="2882900" y="266700"/>
                </a:lnTo>
              </a:path>
            </a:pathLst>
          </a:cu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622440" y="2946240"/>
            <a:ext cx="2882880" cy="304920"/>
          </a:xfrm>
          <a:custGeom>
            <a:avLst/>
            <a:gdLst/>
            <a:ahLst/>
            <a:rect l="l" t="t" r="r" b="b"/>
            <a:pathLst>
              <a:path w="2882900" h="304800">
                <a:moveTo>
                  <a:pt x="0" y="298450"/>
                </a:moveTo>
                <a:lnTo>
                  <a:pt x="1428750" y="292100"/>
                </a:lnTo>
                <a:lnTo>
                  <a:pt x="1435100" y="0"/>
                </a:lnTo>
                <a:lnTo>
                  <a:pt x="2882900" y="0"/>
                </a:lnTo>
                <a:lnTo>
                  <a:pt x="2876550" y="304800"/>
                </a:lnTo>
              </a:path>
            </a:pathLst>
          </a:cu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481640" y="1562040"/>
            <a:ext cx="2912760" cy="960480"/>
          </a:xfrm>
          <a:prstGeom prst="roundRect">
            <a:avLst>
              <a:gd name="adj" fmla="val 5116"/>
            </a:avLst>
          </a:prstGeom>
          <a:solidFill>
            <a:srgbClr val="ffc000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n constate que sur l'ENSEMBLE formé par les 3 informations logiques il y a au total 8 combinaisons possibles…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497480" y="2816280"/>
            <a:ext cx="4035240" cy="961920"/>
          </a:xfrm>
          <a:prstGeom prst="roundRect">
            <a:avLst>
              <a:gd name="adj" fmla="val 5116"/>
            </a:avLst>
          </a:prstGeom>
          <a:solidFill>
            <a:srgbClr val="ffc000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i l'on affecte une valeur numérique à chaque combinaison, on constate que l'on peut donc transporter une information numérique (Nombre) en utilisant un ensemble d'informations LOGIQU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612720" y="32734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974880" y="3282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/>
          <p:nvPr/>
        </p:nvSpPr>
        <p:spPr>
          <a:xfrm>
            <a:off x="1344600" y="3282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1695600" y="3282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2076480" y="3282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2414520" y="3282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>
            <a:off x="2774880" y="3282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3135240" y="3282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3" name=""/>
          <p:cNvCxnSpPr/>
          <p:nvPr/>
        </p:nvCxnSpPr>
        <p:spPr>
          <a:xfrm>
            <a:off x="5866920" y="2529000"/>
            <a:ext cx="396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endCxn id="225" idx="3"/>
          </p:cNvCxnSpPr>
          <p:nvPr/>
        </p:nvCxnSpPr>
        <p:spPr>
          <a:xfrm flipH="1">
            <a:off x="3634560" y="3476160"/>
            <a:ext cx="8629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603360" y="3300480"/>
            <a:ext cx="3031920" cy="352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320760" y="3936960"/>
            <a:ext cx="5835600" cy="792360"/>
          </a:xfrm>
          <a:prstGeom prst="roundRect">
            <a:avLst>
              <a:gd name="adj" fmla="val 5116"/>
            </a:avLst>
          </a:prstGeom>
          <a:solidFill>
            <a:srgbClr val="ffc000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Un peu de vocabulaire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haque information logique est dans ce cas nommée : BI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'ensemble forme un MOT BINAIRE codé sur n BITS (Dans l'exemple n = 3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7" name=""/>
          <p:cNvCxnSpPr/>
          <p:nvPr/>
        </p:nvCxnSpPr>
        <p:spPr>
          <a:xfrm>
            <a:off x="2224080" y="3652920"/>
            <a:ext cx="216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320760" y="4873680"/>
            <a:ext cx="821196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a façon d'affecter une valeur numérique à chaque combinaison est fixée par le CODAGE binaire employé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771640" y="193680"/>
            <a:ext cx="604836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108000" y="193680"/>
            <a:ext cx="122220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etou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/>
          <p:nvPr/>
        </p:nvSpPr>
        <p:spPr>
          <a:xfrm>
            <a:off x="142920" y="871560"/>
            <a:ext cx="8677080" cy="4506840"/>
          </a:xfrm>
          <a:prstGeom prst="roundRect">
            <a:avLst>
              <a:gd name="adj" fmla="val 4644"/>
            </a:avLst>
          </a:prstGeom>
          <a:noFill/>
          <a:ln w="381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/>
          <p:nvPr/>
        </p:nvSpPr>
        <p:spPr>
          <a:xfrm>
            <a:off x="250920" y="2646360"/>
            <a:ext cx="8443800" cy="2514600"/>
          </a:xfrm>
          <a:prstGeom prst="roundRect">
            <a:avLst>
              <a:gd name="adj" fmla="val 3685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alibri"/>
              </a:rPr>
              <a:t>Le codage en binaire naturel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'association combinaison &lt;-&gt; valeur s'effectue en utilisant la relation mathématique suivante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Valeur = B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x 2</a:t>
            </a:r>
            <a:r>
              <a:rPr b="0" lang="fr-FR" sz="14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+ B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x 2</a:t>
            </a:r>
            <a:r>
              <a:rPr b="0" lang="fr-FR" sz="1400" spc="-1" strike="noStrike" baseline="30000">
                <a:solidFill>
                  <a:srgbClr val="000000"/>
                </a:solidFill>
                <a:latin typeface="Calibri"/>
              </a:rPr>
              <a:t>n-1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+ B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Calibri"/>
              </a:rPr>
              <a:t>n-2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x 2</a:t>
            </a:r>
            <a:r>
              <a:rPr b="0" lang="fr-FR" sz="1400" spc="-1" strike="noStrike" baseline="30000">
                <a:solidFill>
                  <a:srgbClr val="000000"/>
                </a:solidFill>
                <a:latin typeface="Calibri"/>
              </a:rPr>
              <a:t>n-2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+  … + …  + B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x 2</a:t>
            </a:r>
            <a:r>
              <a:rPr b="0" lang="fr-FR" sz="1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vec B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, B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, … B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= 0 ou 1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t Valeur  = Valeur numérique décimale équivalen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/>
          <p:nvPr/>
        </p:nvSpPr>
        <p:spPr>
          <a:xfrm>
            <a:off x="268200" y="960480"/>
            <a:ext cx="8426520" cy="1536480"/>
          </a:xfrm>
          <a:prstGeom prst="roundRect">
            <a:avLst>
              <a:gd name="adj" fmla="val 3685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419640" y="993600"/>
          <a:ext cx="2089080" cy="1371600"/>
        </p:xfrm>
        <a:graphic>
          <a:graphicData uri="http://schemas.openxmlformats.org/drawingml/2006/table">
            <a:tbl>
              <a:tblPr/>
              <a:tblGrid>
                <a:gridCol w="1365120"/>
                <a:gridCol w="241200"/>
                <a:gridCol w="241200"/>
                <a:gridCol w="241560"/>
              </a:tblGrid>
              <a:tr h="473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t Bina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283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 du 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0" lang="fr-FR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0" lang="fr-FR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0" lang="fr-FR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37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mple de val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324000" y="993600"/>
            <a:ext cx="2735280" cy="1006560"/>
          </a:xfrm>
          <a:prstGeom prst="rect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Quand on veut utiliser un codage binaire, on commence par affecter un RANG à chaque BIT composant le mot binair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6" name=""/>
          <p:cNvCxnSpPr/>
          <p:nvPr/>
        </p:nvCxnSpPr>
        <p:spPr>
          <a:xfrm>
            <a:off x="3058920" y="1573200"/>
            <a:ext cx="361080" cy="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5724360" y="1390680"/>
            <a:ext cx="2735280" cy="824040"/>
          </a:xfrm>
          <a:prstGeom prst="rect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Par convention le rang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e plus élevé est placé à gau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t le moins élevé à dro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8" name=""/>
          <p:cNvCxnSpPr/>
          <p:nvPr/>
        </p:nvCxnSpPr>
        <p:spPr>
          <a:xfrm flipH="1" flipV="1">
            <a:off x="5508000" y="1679040"/>
            <a:ext cx="216360" cy="2548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4908600" y="1400040"/>
            <a:ext cx="811080" cy="317520"/>
          </a:xfrm>
          <a:custGeom>
            <a:avLst/>
            <a:gdLst/>
            <a:ahLst/>
            <a:rect l="l" t="t" r="r" b="b"/>
            <a:pathLst>
              <a:path w="811987" h="317638">
                <a:moveTo>
                  <a:pt x="811987" y="317638"/>
                </a:moveTo>
                <a:cubicBezTo>
                  <a:pt x="682752" y="215225"/>
                  <a:pt x="559613" y="43318"/>
                  <a:pt x="424282" y="10400"/>
                </a:cubicBezTo>
                <a:cubicBezTo>
                  <a:pt x="288951" y="-22518"/>
                  <a:pt x="112167" y="25030"/>
                  <a:pt x="0" y="120128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/>
          <p:nvPr/>
        </p:nvSpPr>
        <p:spPr>
          <a:xfrm>
            <a:off x="1444680" y="193680"/>
            <a:ext cx="122220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uit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/>
          <p:nvPr/>
        </p:nvSpPr>
        <p:spPr>
          <a:xfrm>
            <a:off x="4716360" y="3222720"/>
            <a:ext cx="3024360" cy="1858320"/>
          </a:xfrm>
          <a:prstGeom prst="rect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mple avec un mot binaire codé sur 3 bit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556240" y="3484440"/>
          <a:ext cx="1392120" cy="1460160"/>
        </p:xfrm>
        <a:graphic>
          <a:graphicData uri="http://schemas.openxmlformats.org/drawingml/2006/table">
            <a:tbl>
              <a:tblPr/>
              <a:tblGrid>
                <a:gridCol w="301680"/>
                <a:gridCol w="272880"/>
                <a:gridCol w="273240"/>
                <a:gridCol w="544320"/>
              </a:tblGrid>
              <a:tr h="43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</a:t>
                      </a:r>
                      <a:r>
                        <a:rPr b="1" lang="fr-FR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</a:t>
                      </a:r>
                      <a:r>
                        <a:rPr b="1" lang="fr-FR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</a:t>
                      </a:r>
                      <a:r>
                        <a:rPr b="1" lang="fr-FR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Valeur Numé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544680" y="4226040"/>
            <a:ext cx="3811320" cy="718920"/>
          </a:xfrm>
          <a:prstGeom prst="roundRect">
            <a:avLst>
              <a:gd name="adj" fmla="val 51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ATTENTION : Ce codage permet de coder en binaire uniquement des nombres entiers positif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7:15:32Z</dcterms:created>
  <dc:creator>Jean-marc SEGURET</dc:creator>
  <dc:description/>
  <dc:language>en-US</dc:language>
  <cp:lastModifiedBy>HH</cp:lastModifiedBy>
  <dcterms:modified xsi:type="dcterms:W3CDTF">2011-07-11T08:58:43Z</dcterms:modified>
  <cp:revision>121</cp:revision>
  <dc:subject/>
  <dc:title>Présentation PowerPoint</dc:title>
</cp:coreProperties>
</file>